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0" y="7063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0920" y="4415040"/>
            <a:ext cx="5607000" cy="41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6720" y="4447800"/>
            <a:ext cx="5137200" cy="4143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cfg/slb/filt X/adv/icmp list gives a list of the available ICMP types upon which filtering can be per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st of Well Known 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     IC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     IG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      TC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      U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9      OSP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2      V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te that client and server processing do not have to be enabled for application redirection.  By default, if no group is specifically chosen by the user, redirection selects group on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3096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464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692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3096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464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82120" y="885960"/>
            <a:ext cx="5743800" cy="40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3096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0464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5692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3096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0464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120" y="885960"/>
            <a:ext cx="5743800" cy="40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77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56040" y="6632640"/>
            <a:ext cx="3000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9E4E-C2B7-4217-BF71-3B99DA719A76}" type="slidenum">
              <a:rPr b="0" lang="en-US" sz="9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113600" y="6026040"/>
            <a:ext cx="1781280" cy="6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1622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4560" y="3468240"/>
            <a:ext cx="5000760" cy="987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6853320"/>
            <a:ext cx="9142200" cy="11160"/>
          </a:xfrm>
          <a:custGeom>
            <a:avLst/>
            <a:gdLst/>
            <a:ahLst/>
            <a:rect l="l" t="t" r="r" b="b"/>
            <a:pathLst>
              <a:path w="6335" h="8">
                <a:moveTo>
                  <a:pt x="0" y="4"/>
                </a:moveTo>
                <a:lnTo>
                  <a:pt x="4" y="8"/>
                </a:lnTo>
                <a:lnTo>
                  <a:pt x="6335" y="8"/>
                </a:lnTo>
                <a:lnTo>
                  <a:pt x="6335" y="0"/>
                </a:lnTo>
                <a:lnTo>
                  <a:pt x="4" y="0"/>
                </a:lnTo>
                <a:lnTo>
                  <a:pt x="8" y="4"/>
                </a:lnTo>
                <a:lnTo>
                  <a:pt x="0" y="4"/>
                </a:lnTo>
                <a:lnTo>
                  <a:pt x="0" y="8"/>
                </a:lnTo>
                <a:lnTo>
                  <a:pt x="4" y="8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0"/>
            <a:ext cx="11160" cy="6858000"/>
          </a:xfrm>
          <a:custGeom>
            <a:avLst/>
            <a:gdLst/>
            <a:ahLst/>
            <a:rect l="l" t="t" r="r" b="b"/>
            <a:pathLst>
              <a:path w="8" h="4896">
                <a:moveTo>
                  <a:pt x="4" y="0"/>
                </a:moveTo>
                <a:lnTo>
                  <a:pt x="0" y="4"/>
                </a:lnTo>
                <a:lnTo>
                  <a:pt x="0" y="4896"/>
                </a:lnTo>
                <a:lnTo>
                  <a:pt x="8" y="4896"/>
                </a:lnTo>
                <a:lnTo>
                  <a:pt x="8" y="4"/>
                </a:lnTo>
                <a:lnTo>
                  <a:pt x="4" y="8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39320" y="6480"/>
            <a:ext cx="12600" cy="6858000"/>
          </a:xfrm>
          <a:custGeom>
            <a:avLst/>
            <a:gdLst/>
            <a:ahLst/>
            <a:rect l="l" t="t" r="r" b="b"/>
            <a:pathLst>
              <a:path w="8" h="4896">
                <a:moveTo>
                  <a:pt x="4" y="4896"/>
                </a:moveTo>
                <a:lnTo>
                  <a:pt x="8" y="4892"/>
                </a:lnTo>
                <a:lnTo>
                  <a:pt x="8" y="0"/>
                </a:lnTo>
                <a:lnTo>
                  <a:pt x="0" y="0"/>
                </a:lnTo>
                <a:lnTo>
                  <a:pt x="0" y="4892"/>
                </a:lnTo>
                <a:lnTo>
                  <a:pt x="4" y="4888"/>
                </a:lnTo>
                <a:lnTo>
                  <a:pt x="4" y="4896"/>
                </a:lnTo>
                <a:lnTo>
                  <a:pt x="8" y="4896"/>
                </a:lnTo>
                <a:lnTo>
                  <a:pt x="8" y="4892"/>
                </a:lnTo>
                <a:lnTo>
                  <a:pt x="4" y="48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22480" y="3171960"/>
            <a:ext cx="0" cy="2947680"/>
          </a:xfrm>
          <a:prstGeom prst="line">
            <a:avLst/>
          </a:prstGeom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77840" y="843120"/>
            <a:ext cx="4908600" cy="2247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15200" y="6019920"/>
            <a:ext cx="1600200" cy="788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ctr">
              <a:lnSpc>
                <a:spcPct val="9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4480" indent="451080" algn="ctr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09680" indent="563400" algn="ctr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7560" algn="ctr">
              <a:lnSpc>
                <a:spcPct val="90000"/>
              </a:lnSpc>
              <a:spcBef>
                <a:spcPts val="224"/>
              </a:spcBef>
              <a:buClr>
                <a:srgbClr val="0033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7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7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8400" y="3974400"/>
            <a:ext cx="6502320" cy="1084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0033"/>
                </a:solidFill>
                <a:latin typeface="Arial"/>
              </a:rPr>
              <a:t>Basic Filtering</a:t>
            </a:r>
            <a:br>
              <a:rPr sz="2800"/>
            </a:br>
            <a:endParaRPr b="1" lang="en-US" sz="4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12520" y="457200"/>
            <a:ext cx="746748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figuring Filters with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CLI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5320" y="1714680"/>
            <a:ext cx="547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Filtering by ICMP Typ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81160" y="1454040"/>
            <a:ext cx="655308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12520" y="456840"/>
            <a:ext cx="746748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 Brief Note On Filter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0280" y="179064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 filters perform a logical AND on all filter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ter fires IF all filter conditions are m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ted filters perform a logical OR on the inverse of all filter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ter fires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ilter condition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2440" y="557280"/>
            <a:ext cx="692928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rocess Static Filters Before Dynamic Filter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81200" y="178920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exclusion/inclusion filters fir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high use filters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default allow and deny filters l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12520" y="456840"/>
            <a:ext cx="746748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Filtering Summary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360" y="1469880"/>
            <a:ext cx="7658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tering enable the administrator to allow and deny traffic, provides application redirection and increase network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filtering configuration and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n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ir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12520" y="456840"/>
            <a:ext cx="746748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Filtering Objective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00280" y="179064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on completion of this module, the user sh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Alteon filtering cap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advantages of wire speed filt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the filtering parameters and 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filter u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gure an Alteon switch for filt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88760" y="671040"/>
            <a:ext cx="746748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Why Do We Want to Filter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14280" y="1790640"/>
            <a:ext cx="855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/deny traf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Web Cache Redirection (WC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depth discussion in Application Redirection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iSD-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security through network address translation (NA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depth discussion in Alteon Certified Engineer cou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520" y="457200"/>
            <a:ext cx="746748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dvantages of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lteon Filtering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00280" y="179064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respeed access li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who uses your network and how your network is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yer 3 and Layer 4 filtering cap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 load network devices to take advantage of their str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12520" y="456840"/>
            <a:ext cx="746748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lteon Filtering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9680" y="1770120"/>
            <a:ext cx="87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on allows filtering on the following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 IP address/range of addr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 port/range of 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tination IP address/range of addr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tination port/range of 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flags (ACK and RST {reset}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36640" y="1749600"/>
            <a:ext cx="2857680" cy="3822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457200"/>
            <a:ext cx="833112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lteon’s Policy Based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Filtering Engin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8520" y="3589200"/>
            <a:ext cx="137304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9600" y="2624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Frame In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11160" y="179244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me /Session Inspec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97120" y="2517840"/>
            <a:ext cx="281124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ource MA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stination MA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P Source Addr /Ran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P Dest Addr / Ran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otocol Typ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CP/UDP Source Po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CP/UDP Dest Po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CP Fla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92160" y="2405160"/>
            <a:ext cx="246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30760" y="20700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Allow Frame / Express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4736520" y="2684160"/>
            <a:ext cx="2000160" cy="227340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273400"/>
              <a:gd name="textAreaBottom" fmla="*/ 2273760 h 227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33006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69440" y="48229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62760" y="3457440"/>
            <a:ext cx="16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126d"/>
                </a:solidFill>
                <a:latin typeface="Times New Roman"/>
              </a:rPr>
              <a:t>Redirect to Server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76600" y="3594240"/>
            <a:ext cx="498600" cy="4618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51480" y="3594240"/>
            <a:ext cx="14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6560" y="5283360"/>
            <a:ext cx="1000080" cy="74916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540200">
            <a:off x="3390840" y="5519160"/>
            <a:ext cx="1000080" cy="74916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626080"/>
            <a:ext cx="269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Iterate per Unmatched Frame /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12520" y="456840"/>
            <a:ext cx="746748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Filter Usag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0280" y="179064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e filters globally, assign them loc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4 filters per swi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ter number determines order of preced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ter numb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filter fires, packet is passed out of swi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fil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2520" y="456840"/>
            <a:ext cx="746748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nfiguring Filter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9840" y="14986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22840" indent="-22284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filters under /cfg/slb/filt # and enabl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6200" indent="-219600">
              <a:lnSpc>
                <a:spcPct val="8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filter parameters and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28960">
              <a:lnSpc>
                <a:spcPct val="8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 224/sip any/dip any/proto tcp/sport any/dport 80/act redir/rport 80/group 1/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/cfg/slb/port #, select the port you wish to apply the filter 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 port filtering under /cfg/slb/port #/filt 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filter port  with /cfg/slb/port #/add #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SLB on - /cfg/slb/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 and sa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12520" y="457200"/>
            <a:ext cx="746748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figuring Filters with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CLI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1335240"/>
            <a:ext cx="67820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4T20:58:18Z</dcterms:created>
  <dc:creator/>
  <dc:description/>
  <dc:language>en-US</dc:language>
  <cp:lastModifiedBy>Alteon WebSystems Inc. </cp:lastModifiedBy>
  <cp:lastPrinted>2000-04-25T15:58:32Z</cp:lastPrinted>
  <dcterms:modified xsi:type="dcterms:W3CDTF">2001-03-27T02:28:38Z</dcterms:modified>
  <cp:revision>127</cp:revision>
  <dc:subject/>
  <dc:title>No Slide Title</dc:title>
</cp:coreProperties>
</file>