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boot/reset ha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equivalent to power cycling the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ther general items to know are the switch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s TFTP to load new software images to FL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two (2) FLASH banks - each can be independently controlled, overwritten, boo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a maintenance kernel for booting an image of last res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two (2) CONFIG banks - One Primary, one Backup.  Each indepdendently boo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a FACTORY DEFAULT flash bank for booting a clean conf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Time clock should be set at switch setup tim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IP address should be set via BOOTP or via Console.  Thereafter, Telnet and the WebUI are also avail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 IS NECESSARY TO SET THE BOOT CONFIGURATION TO FACTORY DEFAULT WHEN DOWNREV’ING THE SWITCH IMAGE DURING BO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internal stack access.  The switch will only respond to internal TCP stack requests from source addresses in the mnet/mmask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levels of verbosity: 0, 1, and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– no prompts, no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– prompts, but no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– prompts and messages. This is the default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0520" y="6937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4560" y="4398480"/>
            <a:ext cx="5140440" cy="4165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fault, only user and admin accounts are a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0520" y="6937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398480"/>
            <a:ext cx="5140440" cy="4165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fault, only user and admin accounts are a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boot/ptimg and /boot/gtimg are new commands in the 8.3 code. They replace the /boot/tftp command, which is still available but hidden. Previously, you could not upload an image via tf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56040" y="663264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8555-0CA2-4079-B1A6-26BFAECC8F73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4560" y="3468240"/>
            <a:ext cx="500076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77840" y="843120"/>
            <a:ext cx="4908600" cy="224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3880" y="3854160"/>
            <a:ext cx="5000400" cy="1206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0033"/>
                </a:solidFill>
                <a:latin typeface="Arial"/>
              </a:rPr>
              <a:t>Alteon Switch Administration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74560" y="4771800"/>
            <a:ext cx="5000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0280" y="772920"/>
            <a:ext cx="86040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rial Download of Switch Imag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3800" y="1590480"/>
            <a:ext cx="7657920" cy="42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 transfer of last re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 firm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image transfer through serial 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…56K 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al download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cyc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-D for 33.6K or shift-F for 5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Hyperterminal for 33.6 or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 using X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the “D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cycle switch and reset hyperterminal to 9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7600" y="49356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Switch Images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0280" y="16178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oftware image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boot/image &lt;image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image1, image2 or b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ooting of the switch required - /b/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6440" y="52380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the Switch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figuration Block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5920" y="1842840"/>
            <a:ext cx="5924520" cy="310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user configuration blocks or a factory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boot/conf comm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525600"/>
            <a:ext cx="660384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witch Image Administration  with 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03520" y="1687680"/>
            <a:ext cx="547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6680" y="48240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Telnet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0280" y="16178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/disable tel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cfg/sys/tnet &lt;e|d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console port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net timeout default set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600" y="54576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Telnet with 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60480" y="180180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65080" y="499680"/>
            <a:ext cx="74678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witch Timeou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00280" y="16178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 CLI session time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to 60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set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fg/sys/idle &lt;idle time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time from 1 to 60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1280" y="46836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Idle Timeout with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3880" y="169848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0760" y="66168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Switch Date and Tim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36588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fg/sys/date &lt;date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fg/sys/time &lt;24 hour time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12520" y="45720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Switch Date and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ime with 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60480" y="189396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0600" y="42336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witch Administration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5600" y="2519280"/>
            <a:ext cx="3753000" cy="36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ogin to switch and change defaul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pgrade and downgrade co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form serial download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 switch software imag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 switch configura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 switch timeou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 switch date and tim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un the switch setup scrip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able/disable Teln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9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8960" y="2504880"/>
            <a:ext cx="3105000" cy="32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ting the switch banner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ting the management network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figure port paramete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 up a Syslo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  SNMP paramete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ore system configura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t switch software ke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3800" y="14875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completion of the module, the student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1600" y="53928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sing the Setup Utilit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4120" y="168588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up script allows for basic switch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on bootup of an unconfigured swi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cfg/set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esc&gt; to exit setup u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4080" y="556920"/>
            <a:ext cx="74678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the Switch Banne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0280" y="16178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n banner up to 80 charact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ner enabled for console/telnet user/admin log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fg/sys/bannr &lt;banner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96680" y="43344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the Banner with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85800" y="158580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5760" y="53820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the Switch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ement Network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0" y="1820880"/>
            <a:ext cx="7969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the administrator to set a workstation or range of workstations that are allowed to have management access to the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fg/sys/mnet &lt;IP Addres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fg/sys/mmask &lt;Subnet Mask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internal stack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5240" y="457200"/>
            <a:ext cx="746784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mnet and mmask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ith 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38400" y="1577880"/>
            <a:ext cx="57690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0160" y="498240"/>
            <a:ext cx="74678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ort Configur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0280" y="16178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e individual physical switch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cfg/port &lt;port number&gt; fast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speed - speed &lt;any/10/100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ex mode - mode &lt;any/full/half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control - fctl &lt;auto/rcv/trns/both/no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egotiation enable/disable - auto &lt;e|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/disable a switch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cfg/port &lt;port number&gt;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/dis (or shorter term e/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7440" y="50112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ort Configuration with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60600" y="1762200"/>
            <a:ext cx="547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12520" y="45684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Up a Syslo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7200" y="132408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e up to two hosts to capture syslog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fg/ip/log(2) &lt;ip addres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ht different types of syslog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ERG: system is unu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ERT:  immediate action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:  critical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:  error condition/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:  warning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:  normal but significant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:  information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:  debug level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0120" y="692280"/>
            <a:ext cx="54180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figuring Syslogs with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01800" y="170028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2520" y="45684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tting Up SNMP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00280" y="1617840"/>
            <a:ext cx="7867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for the switch to support SNMP network managem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88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cfg/snmp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name, system location, contact information (64 characters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/write community strings (32 charac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address of up to 2 hosts to receive system traps (allows for community string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4560" y="401760"/>
            <a:ext cx="55404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stablishing a Console Connec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400" y="1805040"/>
            <a:ext cx="8661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standard DB9 cable with male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600 ba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data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arity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stop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terminal or any other terminal em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2520" y="45720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figuring SNMP with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46360" y="1828800"/>
            <a:ext cx="547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520" y="45720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oring and Retrieving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witch Configur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1446120"/>
            <a:ext cx="782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options to store and retrieve switch configu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488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FTP -- use the switch’s TFTP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fg/ptcfg &lt;server IP, filename&gt; to store a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fg/gtcfg &lt;server IP, filename&gt; to get a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488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 captu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apture text capabilities of hyper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pull down menu:  capture text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to a file to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witch to verbos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and/or paste text from the configurat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switch to verbose 2 to return to switch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2520" y="457200"/>
            <a:ext cx="6535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oring and Retrieving Configurations with 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70040" y="163188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84280" y="839520"/>
            <a:ext cx="56736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pgrading Switch Software Key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04520" y="19731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B and WCR software come with the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SLB and BWM are op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want to run GSLB or BW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 Alteon to obtain license certificate (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ense is MAC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oper/swk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sw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7760" y="70812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pgrading Software Keys with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he CLI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73280" y="1785960"/>
            <a:ext cx="547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34760" y="606240"/>
            <a:ext cx="746748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witch Administration Summary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0280" y="16178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on switches are fully configurable by the network administr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on switches can be managed from a variety of security levels (e.g., user to adm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CLI administration comm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44200" y="442440"/>
            <a:ext cx="7467480" cy="768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witch Administration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ecurity Protection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280" y="137484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6000"/>
              </a:lnSpc>
              <a:spcBef>
                <a:spcPts val="1624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6000"/>
              </a:lnSpc>
              <a:spcBef>
                <a:spcPts val="1063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neric switch access to view switch statistics and status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6000"/>
              </a:lnSpc>
              <a:spcBef>
                <a:spcPts val="1063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ault  - us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6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bo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6000"/>
              </a:lnSpc>
              <a:spcBef>
                <a:spcPts val="1063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rator that manages web servers and other Internet services and their loa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6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4o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6000"/>
              </a:lnSpc>
              <a:spcBef>
                <a:spcPts val="1063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rator that manages traffic on the lines leading to the Internet servic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6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6000"/>
              </a:lnSpc>
              <a:spcBef>
                <a:spcPts val="1063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rator that manages all functions of the switch and is permitted to reset ports or the entire 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312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7200" y="48096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witch Administration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Security Protection (cont’d)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3360" y="1304640"/>
            <a:ext cx="630216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04840" indent="-204840">
              <a:lnSpc>
                <a:spcPct val="86000"/>
              </a:lnSpc>
              <a:spcBef>
                <a:spcPts val="1624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bad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6000"/>
              </a:lnSpc>
              <a:spcBef>
                <a:spcPts val="1463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 that configures and manages web servers and other Internet services and their loa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86000"/>
              </a:lnSpc>
              <a:spcBef>
                <a:spcPts val="1624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4ad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6000"/>
              </a:lnSpc>
              <a:spcBef>
                <a:spcPts val="1463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 that configures and manages the traffic on the lines leading to the shares Interne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6000"/>
              </a:lnSpc>
              <a:spcBef>
                <a:spcPts val="1463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- l4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peruser Administrator that has access to all of the switch's management and configuration fea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-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word determines user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6680" y="49356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hanging Password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6178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ange a user level pass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or access to switch with admin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cfg/sys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p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4ap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r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p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4op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w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1600" y="46368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curity Administration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ith 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403280"/>
            <a:ext cx="60735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520" y="46476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pgrading Switch Cod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6880" y="981000"/>
            <a:ext cx="765828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00520" indent="-20052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software images plus boot im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grading proced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7640">
              <a:lnSpc>
                <a:spcPct val="85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ad new image to tftp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7640">
              <a:lnSpc>
                <a:spcPct val="85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wnload image from tftp server to swit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7640">
              <a:lnSpc>
                <a:spcPct val="85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et switch with new im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boot 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7640">
              <a:lnSpc>
                <a:spcPct val="85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timg – downloads new image via TFT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07840" indent="-205920">
              <a:lnSpc>
                <a:spcPct val="85000"/>
              </a:lnSpc>
              <a:spcBef>
                <a:spcPts val="312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 to put image &lt;image 1/image 2/boot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07840" indent="-205920">
              <a:lnSpc>
                <a:spcPct val="85000"/>
              </a:lnSpc>
              <a:spcBef>
                <a:spcPts val="312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FTP server IP add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07840" indent="-205920">
              <a:lnSpc>
                <a:spcPct val="85000"/>
              </a:lnSpc>
              <a:spcBef>
                <a:spcPts val="312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age file 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10240" indent="-20052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mp vs. _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10240" indent="-20052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 vs. 180e vs. 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t switch with /boot/reset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7640">
              <a:lnSpc>
                <a:spcPct val="85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lect image1 or image2 for reboo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boot 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7640">
              <a:lnSpc>
                <a:spcPct val="85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timg – transfers image to a TFTP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6040" y="46800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owngrading Imag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9920" y="161784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image speci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downgrade two major revision leve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 release notes instructions exa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, BACKUP, BACKUP!!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/boot/ptimg to save current i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al download 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4T20:58:18Z</dcterms:created>
  <dc:creator>Don Swenson</dc:creator>
  <dc:description/>
  <dc:language>en-US</dc:language>
  <cp:lastModifiedBy>Alteon WebSystems Inc. </cp:lastModifiedBy>
  <cp:lastPrinted>1999-01-21T23:33:00Z</cp:lastPrinted>
  <dcterms:modified xsi:type="dcterms:W3CDTF">2001-03-27T02:23:23Z</dcterms:modified>
  <cp:revision>152</cp:revision>
  <dc:subject/>
  <dc:title>No Slide Title</dc:title>
</cp:coreProperties>
</file>