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EE25-0455-4139-8B72-D4B1739D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0160" y="67464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98200" y="4352400"/>
            <a:ext cx="5010120" cy="41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 and ARP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 using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E2C-1876-4B28-9E19-DBF4C6175107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77840" y="843120"/>
            <a:ext cx="4908600" cy="22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421400" y="5938920"/>
            <a:ext cx="1516320" cy="74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3998880"/>
            <a:ext cx="716256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ced Topics Appendix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26444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figuring Large Numbers of VIPs/RIP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eb hosting environments, many thousands of web sites may be hos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web site is assigned its own IP address (to correspond with their own IP domain’s web server na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thousands of IP addresses to represent these environments is easy with Alteon’s Web switching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68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sing Address Masking to Increase Virtual Address Spac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ask may be applied to V_IPs and the R_IPs configured in the swit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increase the range of IP addresses that each V_IP, R_IP responds to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mask is 255.255.255.255, which represents a single I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stance, a mask of 255.255.255.0 corresponds to 255 IP Addresses per configured V_IP, R_I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SPs use entire subnet address ranges when configuring web servers (I.E. xxx.2 through xxx.25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678168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opology Using Virtual Mask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19520" y="3885840"/>
            <a:ext cx="20574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7360" y="3581280"/>
            <a:ext cx="22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24560" y="3733920"/>
            <a:ext cx="19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37160" y="3886200"/>
            <a:ext cx="208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426708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60640" y="3505320"/>
            <a:ext cx="1761840" cy="712800"/>
            <a:chOff x="3860640" y="3505320"/>
            <a:chExt cx="1761840" cy="712800"/>
          </a:xfrm>
        </p:grpSpPr>
        <p:grpSp>
          <p:nvGrpSpPr>
            <p:cNvPr id="105" name=""/>
            <p:cNvGrpSpPr/>
            <p:nvPr/>
          </p:nvGrpSpPr>
          <p:grpSpPr>
            <a:xfrm>
              <a:off x="3860640" y="3505320"/>
              <a:ext cx="1761840" cy="712800"/>
              <a:chOff x="3860640" y="3505320"/>
              <a:chExt cx="1761840" cy="712800"/>
            </a:xfrm>
          </p:grpSpPr>
          <p:sp>
            <p:nvSpPr>
              <p:cNvPr id="106" name=""/>
              <p:cNvSpPr/>
              <p:nvPr/>
            </p:nvSpPr>
            <p:spPr>
              <a:xfrm>
                <a:off x="3860640" y="3800520"/>
                <a:ext cx="852480" cy="417600"/>
              </a:xfrm>
              <a:custGeom>
                <a:avLst/>
                <a:gdLst/>
                <a:ahLst/>
                <a:rect l="l" t="t" r="r" b="b"/>
                <a:pathLst>
                  <a:path w="537" h="263">
                    <a:moveTo>
                      <a:pt x="536" y="119"/>
                    </a:moveTo>
                    <a:lnTo>
                      <a:pt x="536" y="26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536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60640" y="3505320"/>
                <a:ext cx="1761840" cy="485640"/>
              </a:xfrm>
              <a:custGeom>
                <a:avLst/>
                <a:gdLst/>
                <a:ahLst/>
                <a:rect l="l" t="t" r="r" b="b"/>
                <a:pathLst>
                  <a:path w="1110" h="306">
                    <a:moveTo>
                      <a:pt x="1109" y="119"/>
                    </a:moveTo>
                    <a:lnTo>
                      <a:pt x="536" y="305"/>
                    </a:lnTo>
                    <a:lnTo>
                      <a:pt x="0" y="186"/>
                    </a:lnTo>
                    <a:lnTo>
                      <a:pt x="575" y="0"/>
                    </a:lnTo>
                    <a:lnTo>
                      <a:pt x="1109" y="1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11320" y="3693960"/>
                <a:ext cx="911160" cy="52416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860640" y="3800520"/>
              <a:ext cx="852480" cy="41760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60640" y="3505320"/>
              <a:ext cx="1761840" cy="48564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1320" y="3693960"/>
              <a:ext cx="911160" cy="52416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142"/>
                  </a:moveTo>
                  <a:lnTo>
                    <a:pt x="573" y="0"/>
                  </a:lnTo>
                  <a:lnTo>
                    <a:pt x="0" y="186"/>
                  </a:lnTo>
                  <a:lnTo>
                    <a:pt x="0" y="329"/>
                  </a:lnTo>
                  <a:lnTo>
                    <a:pt x="573" y="142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1720" y="387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3"/>
                  </a:move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0560" y="393696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8" y="6"/>
                  </a:moveTo>
                  <a:lnTo>
                    <a:pt x="8" y="4"/>
                  </a:lnTo>
                  <a:lnTo>
                    <a:pt x="12" y="14"/>
                  </a:lnTo>
                  <a:lnTo>
                    <a:pt x="6" y="15"/>
                  </a:lnTo>
                  <a:lnTo>
                    <a:pt x="8" y="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6" y="25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7560" y="3927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6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82760" y="39196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6"/>
                  </a:moveTo>
                  <a:lnTo>
                    <a:pt x="2" y="2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5" y="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9760" y="39225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1"/>
                  </a:moveTo>
                  <a:lnTo>
                    <a:pt x="2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7400" y="390996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10" y="17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8" y="15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63760" y="3900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3480" y="3897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89320" y="38973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6"/>
                  </a:move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9840" y="38829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9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55920" y="38671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3" y="23"/>
                  </a:lnTo>
                  <a:lnTo>
                    <a:pt x="7" y="2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70320" y="38606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12"/>
                  </a:move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8760" y="38527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6" y="1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73240" y="40622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1000" y="40370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27320" y="40132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06520" y="3986280"/>
              <a:ext cx="3528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2840" y="396072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2400" y="393696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8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6920" y="391320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1" y="0"/>
                  </a:moveTo>
                  <a:lnTo>
                    <a:pt x="0" y="6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3240" y="38862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0" y="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240" y="412596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3480" y="41162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1160" y="414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11400" y="4132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8120" y="410220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7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9800" y="409248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0720" y="411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90960" y="41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24080" y="40766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1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9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7560" y="406728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6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6680" y="408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66920" y="407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03640" y="405288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5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33520" y="404028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000" y="406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9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3240" y="4056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79600" y="402588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9840" y="401652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92560" y="404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22440" y="403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59160" y="400068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8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9400" y="399240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7080" y="401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98760" y="400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3680" y="397656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7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5360" y="396720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16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3400" y="399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73280" y="39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10000" y="395280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40240" y="3943440"/>
              <a:ext cx="2988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15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22600" y="396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2840" y="395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55800" y="386388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17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86040" y="385452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18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65520" y="387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95760" y="387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11320" y="3693960"/>
              <a:ext cx="911160" cy="524160"/>
            </a:xfrm>
            <a:custGeom>
              <a:avLst/>
              <a:gdLst/>
              <a:ahLst/>
              <a:rect l="l" t="t" r="r" b="b"/>
              <a:pathLst>
                <a:path w="574" h="330">
                  <a:moveTo>
                    <a:pt x="573" y="0"/>
                  </a:moveTo>
                  <a:lnTo>
                    <a:pt x="0" y="186"/>
                  </a:lnTo>
                  <a:lnTo>
                    <a:pt x="0" y="32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66680" y="4724280"/>
            <a:ext cx="1014480" cy="774720"/>
            <a:chOff x="1066680" y="4724280"/>
            <a:chExt cx="1014480" cy="774720"/>
          </a:xfrm>
        </p:grpSpPr>
        <p:grpSp>
          <p:nvGrpSpPr>
            <p:cNvPr id="171" name=""/>
            <p:cNvGrpSpPr/>
            <p:nvPr/>
          </p:nvGrpSpPr>
          <p:grpSpPr>
            <a:xfrm>
              <a:off x="1066680" y="4724280"/>
              <a:ext cx="1014480" cy="774720"/>
              <a:chOff x="1066680" y="4724280"/>
              <a:chExt cx="1014480" cy="774720"/>
            </a:xfrm>
          </p:grpSpPr>
          <p:sp>
            <p:nvSpPr>
              <p:cNvPr id="172" name=""/>
              <p:cNvSpPr/>
              <p:nvPr/>
            </p:nvSpPr>
            <p:spPr>
              <a:xfrm>
                <a:off x="1066680" y="4964040"/>
                <a:ext cx="295200" cy="295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26880" y="4803480"/>
                <a:ext cx="293760" cy="295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26880" y="5124240"/>
                <a:ext cx="293760" cy="295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87440" y="4724280"/>
                <a:ext cx="372960" cy="3744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87440" y="5124240"/>
                <a:ext cx="372960" cy="37476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85960" y="4964040"/>
                <a:ext cx="295200" cy="295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27200" y="4803480"/>
                <a:ext cx="293400" cy="295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27200" y="5124240"/>
                <a:ext cx="293400" cy="295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87440" y="4964040"/>
                <a:ext cx="372960" cy="29520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077840" y="4730400"/>
              <a:ext cx="990720" cy="762120"/>
              <a:chOff x="1077840" y="4730400"/>
              <a:chExt cx="990720" cy="762120"/>
            </a:xfrm>
          </p:grpSpPr>
          <p:sp>
            <p:nvSpPr>
              <p:cNvPr id="182" name=""/>
              <p:cNvSpPr/>
              <p:nvPr/>
            </p:nvSpPr>
            <p:spPr>
              <a:xfrm>
                <a:off x="1077840" y="4959000"/>
                <a:ext cx="304920" cy="304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30120" y="4806720"/>
                <a:ext cx="304920" cy="304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30120" y="5111640"/>
                <a:ext cx="304920" cy="3045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82760" y="4730400"/>
                <a:ext cx="380880" cy="381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82760" y="5111640"/>
                <a:ext cx="380880" cy="3808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3640" y="4959000"/>
                <a:ext cx="304920" cy="304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11360" y="4806720"/>
                <a:ext cx="304560" cy="304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11360" y="5111640"/>
                <a:ext cx="304560" cy="3045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82760" y="495900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542960" y="4848120"/>
              <a:ext cx="2919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3"/>
                  </a:moveTo>
                  <a:arcTo wR="10800" hR="10800" stAng="-10762635" swAng="528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3"/>
                  </a:moveTo>
                  <a:arcTo wR="10800" hR="10800" stAng="-10762635" swAng="528791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95640" y="4811400"/>
              <a:ext cx="2908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365" swAng="4011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365" swAng="401102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2040" y="5245200"/>
              <a:ext cx="269640" cy="17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074000" y="3073320"/>
            <a:ext cx="418680" cy="585720"/>
            <a:chOff x="7074000" y="3073320"/>
            <a:chExt cx="418680" cy="585720"/>
          </a:xfrm>
        </p:grpSpPr>
        <p:grpSp>
          <p:nvGrpSpPr>
            <p:cNvPr id="195" name=""/>
            <p:cNvGrpSpPr/>
            <p:nvPr/>
          </p:nvGrpSpPr>
          <p:grpSpPr>
            <a:xfrm>
              <a:off x="7074000" y="3073320"/>
              <a:ext cx="418680" cy="585720"/>
              <a:chOff x="7074000" y="3073320"/>
              <a:chExt cx="418680" cy="585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47600" y="3130920"/>
                <a:ext cx="128880" cy="28836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89120" y="3073320"/>
                <a:ext cx="387360" cy="9936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89120" y="3115800"/>
                <a:ext cx="259560" cy="537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47600" y="3356280"/>
                <a:ext cx="128880" cy="29844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75760" y="358596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074000" y="3573000"/>
                <a:ext cx="275040" cy="8604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31760" y="3630600"/>
                <a:ext cx="16920" cy="280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467840" y="3582000"/>
              <a:ext cx="19080" cy="16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67840" y="3582000"/>
              <a:ext cx="19080" cy="16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47600" y="3130920"/>
              <a:ext cx="128880" cy="26892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9120" y="3073320"/>
              <a:ext cx="387360" cy="9936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9120" y="3115800"/>
              <a:ext cx="259560" cy="537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71360" y="3181680"/>
              <a:ext cx="79920" cy="5688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1360" y="3241800"/>
              <a:ext cx="79920" cy="5580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47600" y="3356280"/>
              <a:ext cx="128880" cy="29844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47600" y="3356280"/>
              <a:ext cx="128880" cy="4356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33560" y="3126960"/>
              <a:ext cx="142920" cy="4536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33560" y="3170520"/>
              <a:ext cx="16920" cy="48240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74000" y="3573000"/>
              <a:ext cx="275040" cy="8604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31760" y="3630600"/>
              <a:ext cx="16920" cy="280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75760" y="3585960"/>
              <a:ext cx="16920" cy="26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911760" y="4635360"/>
            <a:ext cx="448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ask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5.255.25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_IP #1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165.12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presents 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8-.25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_IP #2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165.130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presen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0-.1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52680" y="4101840"/>
            <a:ext cx="97812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81080" y="464832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95480" y="4483080"/>
            <a:ext cx="577800" cy="274680"/>
            <a:chOff x="2895480" y="4483080"/>
            <a:chExt cx="577800" cy="274680"/>
          </a:xfrm>
        </p:grpSpPr>
        <p:grpSp>
          <p:nvGrpSpPr>
            <p:cNvPr id="221" name=""/>
            <p:cNvGrpSpPr/>
            <p:nvPr/>
          </p:nvGrpSpPr>
          <p:grpSpPr>
            <a:xfrm>
              <a:off x="2895480" y="4483080"/>
              <a:ext cx="577800" cy="274680"/>
              <a:chOff x="2895480" y="4483080"/>
              <a:chExt cx="577800" cy="27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5480" y="4483080"/>
                <a:ext cx="577800" cy="27468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95480" y="4483080"/>
                <a:ext cx="577800" cy="17928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895480" y="4483080"/>
              <a:ext cx="577800" cy="27468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95480" y="4483080"/>
              <a:ext cx="577800" cy="17928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2200" y="4508640"/>
              <a:ext cx="144360" cy="5472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10120" y="4575960"/>
              <a:ext cx="162000" cy="4140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1840" y="4583880"/>
              <a:ext cx="144360" cy="5472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96280" y="4528800"/>
              <a:ext cx="160920" cy="4140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578400" y="1322280"/>
            <a:ext cx="3909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ulti-netted / logical-IF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IP #1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10.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epresen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128-.25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IP #2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10.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epresen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128-.25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IP #3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10.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epresen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1-.1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IP #4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10.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epresen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1-.1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46040" y="302256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5040" y="3062160"/>
            <a:ext cx="294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outer interface(s) to the ‘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ing all the subnets for all V_IP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362320" y="4051440"/>
            <a:ext cx="577800" cy="274320"/>
            <a:chOff x="2362320" y="4051440"/>
            <a:chExt cx="577800" cy="274320"/>
          </a:xfrm>
        </p:grpSpPr>
        <p:grpSp>
          <p:nvGrpSpPr>
            <p:cNvPr id="234" name=""/>
            <p:cNvGrpSpPr/>
            <p:nvPr/>
          </p:nvGrpSpPr>
          <p:grpSpPr>
            <a:xfrm>
              <a:off x="2362320" y="4051440"/>
              <a:ext cx="577800" cy="274320"/>
              <a:chOff x="2362320" y="4051440"/>
              <a:chExt cx="577800" cy="274320"/>
            </a:xfrm>
          </p:grpSpPr>
          <p:sp>
            <p:nvSpPr>
              <p:cNvPr id="235" name=""/>
              <p:cNvSpPr/>
              <p:nvPr/>
            </p:nvSpPr>
            <p:spPr>
              <a:xfrm>
                <a:off x="2362320" y="4051440"/>
                <a:ext cx="577800" cy="274320"/>
              </a:xfrm>
              <a:custGeom>
                <a:avLst/>
                <a:gdLst/>
                <a:ahLst/>
                <a:rect l="l" t="t" r="r" b="b"/>
                <a:pathLst>
                  <a:path w="516" h="245">
                    <a:moveTo>
                      <a:pt x="515" y="71"/>
                    </a:moveTo>
                    <a:lnTo>
                      <a:pt x="513" y="64"/>
                    </a:lnTo>
                    <a:lnTo>
                      <a:pt x="509" y="56"/>
                    </a:lnTo>
                    <a:lnTo>
                      <a:pt x="503" y="46"/>
                    </a:lnTo>
                    <a:lnTo>
                      <a:pt x="492" y="39"/>
                    </a:lnTo>
                    <a:lnTo>
                      <a:pt x="480" y="33"/>
                    </a:lnTo>
                    <a:lnTo>
                      <a:pt x="465" y="25"/>
                    </a:lnTo>
                    <a:lnTo>
                      <a:pt x="446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8" y="44"/>
                    </a:lnTo>
                    <a:lnTo>
                      <a:pt x="34" y="50"/>
                    </a:lnTo>
                    <a:lnTo>
                      <a:pt x="23" y="58"/>
                    </a:lnTo>
                    <a:lnTo>
                      <a:pt x="13" y="66"/>
                    </a:lnTo>
                    <a:lnTo>
                      <a:pt x="8" y="71"/>
                    </a:lnTo>
                    <a:lnTo>
                      <a:pt x="4" y="79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0" y="173"/>
                    </a:lnTo>
                    <a:lnTo>
                      <a:pt x="0" y="182"/>
                    </a:lnTo>
                    <a:lnTo>
                      <a:pt x="4" y="190"/>
                    </a:lnTo>
                    <a:lnTo>
                      <a:pt x="11" y="198"/>
                    </a:lnTo>
                    <a:lnTo>
                      <a:pt x="21" y="205"/>
                    </a:lnTo>
                    <a:lnTo>
                      <a:pt x="34" y="213"/>
                    </a:lnTo>
                    <a:lnTo>
                      <a:pt x="50" y="221"/>
                    </a:lnTo>
                    <a:lnTo>
                      <a:pt x="67" y="226"/>
                    </a:lnTo>
                    <a:lnTo>
                      <a:pt x="90" y="232"/>
                    </a:lnTo>
                    <a:lnTo>
                      <a:pt x="132" y="240"/>
                    </a:lnTo>
                    <a:lnTo>
                      <a:pt x="178" y="244"/>
                    </a:lnTo>
                    <a:lnTo>
                      <a:pt x="228" y="244"/>
                    </a:lnTo>
                    <a:lnTo>
                      <a:pt x="276" y="244"/>
                    </a:lnTo>
                    <a:lnTo>
                      <a:pt x="325" y="238"/>
                    </a:lnTo>
                    <a:lnTo>
                      <a:pt x="371" y="230"/>
                    </a:lnTo>
                    <a:lnTo>
                      <a:pt x="392" y="226"/>
                    </a:lnTo>
                    <a:lnTo>
                      <a:pt x="413" y="221"/>
                    </a:lnTo>
                    <a:lnTo>
                      <a:pt x="434" y="215"/>
                    </a:lnTo>
                    <a:lnTo>
                      <a:pt x="452" y="209"/>
                    </a:lnTo>
                    <a:lnTo>
                      <a:pt x="467" y="201"/>
                    </a:lnTo>
                    <a:lnTo>
                      <a:pt x="480" y="196"/>
                    </a:lnTo>
                    <a:lnTo>
                      <a:pt x="492" y="188"/>
                    </a:lnTo>
                    <a:lnTo>
                      <a:pt x="499" y="180"/>
                    </a:lnTo>
                    <a:lnTo>
                      <a:pt x="507" y="175"/>
                    </a:lnTo>
                    <a:lnTo>
                      <a:pt x="511" y="167"/>
                    </a:lnTo>
                    <a:lnTo>
                      <a:pt x="513" y="159"/>
                    </a:lnTo>
                    <a:lnTo>
                      <a:pt x="515" y="154"/>
                    </a:lnTo>
                    <a:lnTo>
                      <a:pt x="515" y="7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62320" y="4051440"/>
                <a:ext cx="577800" cy="178920"/>
              </a:xfrm>
              <a:custGeom>
                <a:avLst/>
                <a:gdLst/>
                <a:ahLst/>
                <a:rect l="l" t="t" r="r" b="b"/>
                <a:pathLst>
                  <a:path w="516" h="160">
                    <a:moveTo>
                      <a:pt x="452" y="123"/>
                    </a:moveTo>
                    <a:lnTo>
                      <a:pt x="469" y="117"/>
                    </a:lnTo>
                    <a:lnTo>
                      <a:pt x="482" y="110"/>
                    </a:lnTo>
                    <a:lnTo>
                      <a:pt x="494" y="102"/>
                    </a:lnTo>
                    <a:lnTo>
                      <a:pt x="501" y="94"/>
                    </a:lnTo>
                    <a:lnTo>
                      <a:pt x="509" y="87"/>
                    </a:lnTo>
                    <a:lnTo>
                      <a:pt x="513" y="79"/>
                    </a:lnTo>
                    <a:lnTo>
                      <a:pt x="515" y="71"/>
                    </a:lnTo>
                    <a:lnTo>
                      <a:pt x="513" y="64"/>
                    </a:lnTo>
                    <a:lnTo>
                      <a:pt x="511" y="56"/>
                    </a:lnTo>
                    <a:lnTo>
                      <a:pt x="505" y="50"/>
                    </a:lnTo>
                    <a:lnTo>
                      <a:pt x="498" y="43"/>
                    </a:lnTo>
                    <a:lnTo>
                      <a:pt x="488" y="37"/>
                    </a:lnTo>
                    <a:lnTo>
                      <a:pt x="475" y="29"/>
                    </a:lnTo>
                    <a:lnTo>
                      <a:pt x="461" y="23"/>
                    </a:lnTo>
                    <a:lnTo>
                      <a:pt x="444" y="20"/>
                    </a:lnTo>
                    <a:lnTo>
                      <a:pt x="425" y="14"/>
                    </a:lnTo>
                    <a:lnTo>
                      <a:pt x="383" y="6"/>
                    </a:lnTo>
                    <a:lnTo>
                      <a:pt x="335" y="2"/>
                    </a:lnTo>
                    <a:lnTo>
                      <a:pt x="287" y="0"/>
                    </a:lnTo>
                    <a:lnTo>
                      <a:pt x="237" y="2"/>
                    </a:lnTo>
                    <a:lnTo>
                      <a:pt x="189" y="8"/>
                    </a:lnTo>
                    <a:lnTo>
                      <a:pt x="143" y="14"/>
                    </a:lnTo>
                    <a:lnTo>
                      <a:pt x="99" y="25"/>
                    </a:lnTo>
                    <a:lnTo>
                      <a:pt x="63" y="37"/>
                    </a:lnTo>
                    <a:lnTo>
                      <a:pt x="46" y="44"/>
                    </a:lnTo>
                    <a:lnTo>
                      <a:pt x="32" y="52"/>
                    </a:lnTo>
                    <a:lnTo>
                      <a:pt x="21" y="58"/>
                    </a:lnTo>
                    <a:lnTo>
                      <a:pt x="11" y="66"/>
                    </a:lnTo>
                    <a:lnTo>
                      <a:pt x="6" y="73"/>
                    </a:lnTo>
                    <a:lnTo>
                      <a:pt x="2" y="81"/>
                    </a:lnTo>
                    <a:lnTo>
                      <a:pt x="0" y="89"/>
                    </a:lnTo>
                    <a:lnTo>
                      <a:pt x="0" y="96"/>
                    </a:lnTo>
                    <a:lnTo>
                      <a:pt x="4" y="104"/>
                    </a:lnTo>
                    <a:lnTo>
                      <a:pt x="9" y="111"/>
                    </a:lnTo>
                    <a:lnTo>
                      <a:pt x="17" y="117"/>
                    </a:lnTo>
                    <a:lnTo>
                      <a:pt x="27" y="125"/>
                    </a:lnTo>
                    <a:lnTo>
                      <a:pt x="38" y="131"/>
                    </a:lnTo>
                    <a:lnTo>
                      <a:pt x="54" y="136"/>
                    </a:lnTo>
                    <a:lnTo>
                      <a:pt x="71" y="142"/>
                    </a:lnTo>
                    <a:lnTo>
                      <a:pt x="90" y="146"/>
                    </a:lnTo>
                    <a:lnTo>
                      <a:pt x="132" y="154"/>
                    </a:lnTo>
                    <a:lnTo>
                      <a:pt x="178" y="159"/>
                    </a:lnTo>
                    <a:lnTo>
                      <a:pt x="228" y="159"/>
                    </a:lnTo>
                    <a:lnTo>
                      <a:pt x="276" y="157"/>
                    </a:lnTo>
                    <a:lnTo>
                      <a:pt x="325" y="154"/>
                    </a:lnTo>
                    <a:lnTo>
                      <a:pt x="371" y="146"/>
                    </a:lnTo>
                    <a:lnTo>
                      <a:pt x="392" y="142"/>
                    </a:lnTo>
                    <a:lnTo>
                      <a:pt x="413" y="136"/>
                    </a:lnTo>
                    <a:lnTo>
                      <a:pt x="434" y="131"/>
                    </a:lnTo>
                    <a:lnTo>
                      <a:pt x="452" y="1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362320" y="4051440"/>
              <a:ext cx="577800" cy="27432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2320" y="4051440"/>
              <a:ext cx="577800" cy="17892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69040" y="4077000"/>
              <a:ext cx="144360" cy="5472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76960" y="4144320"/>
              <a:ext cx="162000" cy="4140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88680" y="4152240"/>
              <a:ext cx="144360" cy="5472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3120" y="4097160"/>
              <a:ext cx="160920" cy="4140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226280" y="3225960"/>
            <a:ext cx="418680" cy="585720"/>
            <a:chOff x="7226280" y="3225960"/>
            <a:chExt cx="418680" cy="585720"/>
          </a:xfrm>
        </p:grpSpPr>
        <p:grpSp>
          <p:nvGrpSpPr>
            <p:cNvPr id="244" name=""/>
            <p:cNvGrpSpPr/>
            <p:nvPr/>
          </p:nvGrpSpPr>
          <p:grpSpPr>
            <a:xfrm>
              <a:off x="7226280" y="3225960"/>
              <a:ext cx="418680" cy="585720"/>
              <a:chOff x="7226280" y="3225960"/>
              <a:chExt cx="418680" cy="585720"/>
            </a:xfrm>
          </p:grpSpPr>
          <p:sp>
            <p:nvSpPr>
              <p:cNvPr id="245" name=""/>
              <p:cNvSpPr/>
              <p:nvPr/>
            </p:nvSpPr>
            <p:spPr>
              <a:xfrm>
                <a:off x="7499880" y="3283560"/>
                <a:ext cx="128880" cy="28836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41400" y="3225960"/>
                <a:ext cx="387360" cy="9936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41400" y="3268440"/>
                <a:ext cx="259560" cy="537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99880" y="3508920"/>
                <a:ext cx="128880" cy="29844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28040" y="373860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6280" y="3725640"/>
                <a:ext cx="275040" cy="8604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84040" y="3783240"/>
                <a:ext cx="16920" cy="280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7620120" y="3734640"/>
              <a:ext cx="19080" cy="16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0120" y="3734640"/>
              <a:ext cx="19080" cy="16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9880" y="3283560"/>
              <a:ext cx="128880" cy="26892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41400" y="3225960"/>
              <a:ext cx="387360" cy="9936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41400" y="3268440"/>
              <a:ext cx="259560" cy="537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23640" y="3334320"/>
              <a:ext cx="79920" cy="5688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3640" y="3394440"/>
              <a:ext cx="79920" cy="5580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99880" y="3508920"/>
              <a:ext cx="128880" cy="29844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99880" y="3508920"/>
              <a:ext cx="128880" cy="4356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5840" y="3279600"/>
              <a:ext cx="142920" cy="4536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85840" y="3323160"/>
              <a:ext cx="16920" cy="48240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26280" y="3725640"/>
              <a:ext cx="275040" cy="8604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4040" y="3783240"/>
              <a:ext cx="16920" cy="280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8040" y="3738600"/>
              <a:ext cx="16920" cy="26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78560" y="3378240"/>
            <a:ext cx="419040" cy="585720"/>
            <a:chOff x="7378560" y="3378240"/>
            <a:chExt cx="419040" cy="585720"/>
          </a:xfrm>
        </p:grpSpPr>
        <p:grpSp>
          <p:nvGrpSpPr>
            <p:cNvPr id="267" name=""/>
            <p:cNvGrpSpPr/>
            <p:nvPr/>
          </p:nvGrpSpPr>
          <p:grpSpPr>
            <a:xfrm>
              <a:off x="7378560" y="3378240"/>
              <a:ext cx="419040" cy="585720"/>
              <a:chOff x="7378560" y="3378240"/>
              <a:chExt cx="419040" cy="585720"/>
            </a:xfrm>
          </p:grpSpPr>
          <p:sp>
            <p:nvSpPr>
              <p:cNvPr id="268" name=""/>
              <p:cNvSpPr/>
              <p:nvPr/>
            </p:nvSpPr>
            <p:spPr>
              <a:xfrm>
                <a:off x="7652520" y="3435840"/>
                <a:ext cx="128880" cy="288360"/>
              </a:xfrm>
              <a:custGeom>
                <a:avLst/>
                <a:gdLst/>
                <a:ahLst/>
                <a:rect l="l" t="t" r="r" b="b"/>
                <a:pathLst>
                  <a:path w="127" h="284">
                    <a:moveTo>
                      <a:pt x="126" y="237"/>
                    </a:moveTo>
                    <a:lnTo>
                      <a:pt x="126" y="0"/>
                    </a:lnTo>
                    <a:lnTo>
                      <a:pt x="0" y="42"/>
                    </a:lnTo>
                    <a:lnTo>
                      <a:pt x="0" y="283"/>
                    </a:lnTo>
                    <a:lnTo>
                      <a:pt x="126" y="23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93680" y="3378240"/>
                <a:ext cx="387720" cy="99360"/>
              </a:xfrm>
              <a:custGeom>
                <a:avLst/>
                <a:gdLst/>
                <a:ahLst/>
                <a:rect l="l" t="t" r="r" b="b"/>
                <a:pathLst>
                  <a:path w="382" h="98">
                    <a:moveTo>
                      <a:pt x="381" y="57"/>
                    </a:moveTo>
                    <a:lnTo>
                      <a:pt x="127" y="0"/>
                    </a:lnTo>
                    <a:lnTo>
                      <a:pt x="0" y="42"/>
                    </a:lnTo>
                    <a:lnTo>
                      <a:pt x="255" y="97"/>
                    </a:lnTo>
                    <a:lnTo>
                      <a:pt x="381" y="5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3680" y="3420720"/>
                <a:ext cx="259920" cy="537120"/>
              </a:xfrm>
              <a:custGeom>
                <a:avLst/>
                <a:gdLst/>
                <a:ahLst/>
                <a:rect l="l" t="t" r="r" b="b"/>
                <a:pathLst>
                  <a:path w="256" h="529">
                    <a:moveTo>
                      <a:pt x="255" y="55"/>
                    </a:moveTo>
                    <a:lnTo>
                      <a:pt x="255" y="528"/>
                    </a:lnTo>
                    <a:lnTo>
                      <a:pt x="0" y="473"/>
                    </a:lnTo>
                    <a:lnTo>
                      <a:pt x="0" y="0"/>
                    </a:lnTo>
                    <a:lnTo>
                      <a:pt x="255" y="55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52520" y="3661200"/>
                <a:ext cx="128880" cy="298440"/>
              </a:xfrm>
              <a:custGeom>
                <a:avLst/>
                <a:gdLst/>
                <a:ahLst/>
                <a:rect l="l" t="t" r="r" b="b"/>
                <a:pathLst>
                  <a:path w="127" h="294">
                    <a:moveTo>
                      <a:pt x="126" y="0"/>
                    </a:moveTo>
                    <a:lnTo>
                      <a:pt x="120" y="10"/>
                    </a:lnTo>
                    <a:lnTo>
                      <a:pt x="109" y="17"/>
                    </a:lnTo>
                    <a:lnTo>
                      <a:pt x="94" y="25"/>
                    </a:lnTo>
                    <a:lnTo>
                      <a:pt x="76" y="31"/>
                    </a:lnTo>
                    <a:lnTo>
                      <a:pt x="55" y="37"/>
                    </a:lnTo>
                    <a:lnTo>
                      <a:pt x="36" y="4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291"/>
                    </a:lnTo>
                    <a:lnTo>
                      <a:pt x="17" y="293"/>
                    </a:lnTo>
                    <a:lnTo>
                      <a:pt x="36" y="291"/>
                    </a:lnTo>
                    <a:lnTo>
                      <a:pt x="55" y="287"/>
                    </a:lnTo>
                    <a:lnTo>
                      <a:pt x="76" y="281"/>
                    </a:lnTo>
                    <a:lnTo>
                      <a:pt x="94" y="274"/>
                    </a:lnTo>
                    <a:lnTo>
                      <a:pt x="109" y="266"/>
                    </a:lnTo>
                    <a:lnTo>
                      <a:pt x="120" y="258"/>
                    </a:lnTo>
                    <a:lnTo>
                      <a:pt x="126" y="251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80680" y="3890880"/>
                <a:ext cx="16920" cy="2628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19"/>
                    </a:move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16" y="19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78560" y="3877920"/>
                <a:ext cx="275040" cy="86040"/>
              </a:xfrm>
              <a:custGeom>
                <a:avLst/>
                <a:gdLst/>
                <a:ahLst/>
                <a:rect l="l" t="t" r="r" b="b"/>
                <a:pathLst>
                  <a:path w="271" h="85">
                    <a:moveTo>
                      <a:pt x="254" y="84"/>
                    </a:moveTo>
                    <a:lnTo>
                      <a:pt x="254" y="78"/>
                    </a:lnTo>
                    <a:lnTo>
                      <a:pt x="254" y="72"/>
                    </a:lnTo>
                    <a:lnTo>
                      <a:pt x="256" y="68"/>
                    </a:lnTo>
                    <a:lnTo>
                      <a:pt x="256" y="65"/>
                    </a:lnTo>
                    <a:lnTo>
                      <a:pt x="258" y="63"/>
                    </a:lnTo>
                    <a:lnTo>
                      <a:pt x="262" y="61"/>
                    </a:lnTo>
                    <a:lnTo>
                      <a:pt x="266" y="59"/>
                    </a:lnTo>
                    <a:lnTo>
                      <a:pt x="270" y="57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54" y="8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36320" y="3935520"/>
                <a:ext cx="16920" cy="280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7"/>
                    </a:move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21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772400" y="3886920"/>
              <a:ext cx="19080" cy="16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72400" y="3886920"/>
              <a:ext cx="19080" cy="16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52520" y="3435840"/>
              <a:ext cx="128880" cy="26892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93680" y="3378240"/>
              <a:ext cx="387720" cy="9936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3680" y="3420720"/>
              <a:ext cx="259920" cy="5371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9c1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75920" y="3486600"/>
              <a:ext cx="79920" cy="5688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75920" y="3546720"/>
              <a:ext cx="79920" cy="5580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52520" y="3661200"/>
              <a:ext cx="128880" cy="29844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e9c198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52520" y="3661200"/>
              <a:ext cx="128880" cy="4356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38480" y="3431880"/>
              <a:ext cx="142920" cy="4536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8480" y="3475440"/>
              <a:ext cx="16920" cy="48240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78560" y="3877920"/>
              <a:ext cx="275040" cy="8604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6320" y="3935520"/>
              <a:ext cx="16920" cy="280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80680" y="3890880"/>
              <a:ext cx="16920" cy="26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irtual Masking Rules/Not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6582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16000" indent="-2160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using masking, contiguous ranges of IP addresses are used  based on configured VIPs and R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a one-to-one correspondence of VIP IP addresses to RIP IP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fined IP address for each Real Server is the ONLY IP address which is health checked -- we do not health check the entire range of addr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st octets of the VIP map directly to the last octets of the RIP (based on mas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280" indent="-2131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a mask of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280" indent="-2131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:192.168.20.125 maps 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1560" indent="-222120">
              <a:lnSpc>
                <a:spcPct val="85000"/>
              </a:lnSpc>
              <a:spcBef>
                <a:spcPts val="337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10.230.11.1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1560" indent="-222120">
              <a:lnSpc>
                <a:spcPct val="8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10.88.55.1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Ps are the IP addresses advertised via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best with IP routing or static NAT running in the switch -- servers are usually on a private subnet (10.x)  with each server having at least one reachable admi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Ps with Many Service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to be able to configure many TCP/UDP services associated with a single virtual I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ow configure multiple virtual servers (/cfg/slb/vir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n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with the SAME IP address.  So, (virt 1 .. vir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n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can be configured with the same IP addresses, and (8) unique services apie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efault Gateway Load Balanc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6800" y="1257480"/>
            <a:ext cx="5200560" cy="49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ith SLB at the same time. 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g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ffic is statistically load balanced among up to four default gateway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how we do it with Redirection, we ensure IP Flows are properly maintained between unique IP Sources and Destin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to ensure no out-of-order frames are transmitted out the WAN or LAN backb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on’t care (nor can we control) how fram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g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WAN to the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outers must have the ability the get to all destinations.  Out-of-balance routing tables between the routers (from different network providers, for instance) will create probl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137280" y="2953800"/>
            <a:ext cx="206280" cy="176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531120" y="2490480"/>
            <a:ext cx="104436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62800" y="2603160"/>
            <a:ext cx="129528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476760" y="2360520"/>
            <a:ext cx="871560" cy="64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58160" y="2038320"/>
            <a:ext cx="381960" cy="485280"/>
            <a:chOff x="7058160" y="2038320"/>
            <a:chExt cx="381960" cy="485280"/>
          </a:xfrm>
        </p:grpSpPr>
        <p:sp>
          <p:nvSpPr>
            <p:cNvPr id="300" name=""/>
            <p:cNvSpPr/>
            <p:nvPr/>
          </p:nvSpPr>
          <p:spPr>
            <a:xfrm flipH="1">
              <a:off x="7063200" y="2459880"/>
              <a:ext cx="1692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063200" y="2459880"/>
              <a:ext cx="1692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072560" y="2087280"/>
              <a:ext cx="118800" cy="2224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072560" y="2038320"/>
              <a:ext cx="352800" cy="8352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188120" y="2072880"/>
              <a:ext cx="237600" cy="44460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d5a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095240" y="2127960"/>
              <a:ext cx="72000" cy="4644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095240" y="2176920"/>
              <a:ext cx="72000" cy="4896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072560" y="2272680"/>
              <a:ext cx="118800" cy="24804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d5ac98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072560" y="2272680"/>
              <a:ext cx="118800" cy="370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071840" y="2081880"/>
              <a:ext cx="129960" cy="3960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188120" y="2119320"/>
              <a:ext cx="14400" cy="3981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188120" y="2451600"/>
              <a:ext cx="252000" cy="7200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187400" y="25005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058160" y="2463120"/>
              <a:ext cx="14400" cy="22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502400" y="2025720"/>
            <a:ext cx="381960" cy="481680"/>
            <a:chOff x="7502400" y="2025720"/>
            <a:chExt cx="381960" cy="481680"/>
          </a:xfrm>
        </p:grpSpPr>
        <p:sp>
          <p:nvSpPr>
            <p:cNvPr id="315" name=""/>
            <p:cNvSpPr/>
            <p:nvPr/>
          </p:nvSpPr>
          <p:spPr>
            <a:xfrm flipH="1">
              <a:off x="7507440" y="2444400"/>
              <a:ext cx="16920" cy="140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507440" y="2444400"/>
              <a:ext cx="16920" cy="140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516800" y="2074320"/>
              <a:ext cx="118800" cy="22104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516080" y="2025720"/>
              <a:ext cx="353160" cy="8316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32360" y="2059920"/>
              <a:ext cx="237600" cy="44172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d5a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539840" y="2114640"/>
              <a:ext cx="72000" cy="4608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539840" y="2163600"/>
              <a:ext cx="72000" cy="4860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516800" y="2258640"/>
              <a:ext cx="118800" cy="24624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d5ac98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516800" y="2258640"/>
              <a:ext cx="118800" cy="370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516080" y="2069280"/>
              <a:ext cx="129960" cy="3960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632360" y="2106360"/>
              <a:ext cx="14400" cy="39528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632360" y="2436120"/>
              <a:ext cx="252000" cy="7128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631640" y="24847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502400" y="2447640"/>
              <a:ext cx="14400" cy="22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731000" y="2308320"/>
            <a:ext cx="381960" cy="485280"/>
            <a:chOff x="7731000" y="2308320"/>
            <a:chExt cx="381960" cy="485280"/>
          </a:xfrm>
        </p:grpSpPr>
        <p:sp>
          <p:nvSpPr>
            <p:cNvPr id="330" name=""/>
            <p:cNvSpPr/>
            <p:nvPr/>
          </p:nvSpPr>
          <p:spPr>
            <a:xfrm flipH="1">
              <a:off x="7736040" y="2729880"/>
              <a:ext cx="1692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736040" y="2729880"/>
              <a:ext cx="1692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8" y="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745400" y="2357280"/>
              <a:ext cx="118800" cy="2224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26" y="222"/>
                  </a:moveTo>
                  <a:lnTo>
                    <a:pt x="126" y="0"/>
                  </a:lnTo>
                  <a:lnTo>
                    <a:pt x="0" y="40"/>
                  </a:lnTo>
                  <a:lnTo>
                    <a:pt x="0" y="264"/>
                  </a:lnTo>
                  <a:lnTo>
                    <a:pt x="126" y="22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744680" y="2308320"/>
              <a:ext cx="353160" cy="83520"/>
            </a:xfrm>
            <a:custGeom>
              <a:avLst/>
              <a:gdLst/>
              <a:ahLst/>
              <a:rect l="l" t="t" r="r" b="b"/>
              <a:pathLst>
                <a:path w="382" h="98">
                  <a:moveTo>
                    <a:pt x="381" y="57"/>
                  </a:moveTo>
                  <a:lnTo>
                    <a:pt x="127" y="0"/>
                  </a:lnTo>
                  <a:lnTo>
                    <a:pt x="0" y="42"/>
                  </a:lnTo>
                  <a:lnTo>
                    <a:pt x="255" y="97"/>
                  </a:lnTo>
                  <a:lnTo>
                    <a:pt x="381" y="57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60960" y="2342880"/>
              <a:ext cx="237600" cy="444600"/>
            </a:xfrm>
            <a:custGeom>
              <a:avLst/>
              <a:gdLst/>
              <a:ahLst/>
              <a:rect l="l" t="t" r="r" b="b"/>
              <a:pathLst>
                <a:path w="256" h="529">
                  <a:moveTo>
                    <a:pt x="255" y="55"/>
                  </a:moveTo>
                  <a:lnTo>
                    <a:pt x="255" y="528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255" y="55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d5a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440" y="2397960"/>
              <a:ext cx="72000" cy="46440"/>
            </a:xfrm>
            <a:custGeom>
              <a:avLst/>
              <a:gdLst/>
              <a:ahLst/>
              <a:rect l="l" t="t" r="r" b="b"/>
              <a:pathLst>
                <a:path w="79" h="56">
                  <a:moveTo>
                    <a:pt x="78" y="3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78" y="3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768440" y="2446920"/>
              <a:ext cx="72000" cy="4896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29"/>
                  </a:moveTo>
                  <a:lnTo>
                    <a:pt x="78" y="0"/>
                  </a:lnTo>
                  <a:lnTo>
                    <a:pt x="0" y="25"/>
                  </a:lnTo>
                  <a:lnTo>
                    <a:pt x="0" y="54"/>
                  </a:lnTo>
                  <a:lnTo>
                    <a:pt x="78" y="29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745400" y="2542680"/>
              <a:ext cx="118800" cy="248040"/>
            </a:xfrm>
            <a:custGeom>
              <a:avLst/>
              <a:gdLst/>
              <a:ahLst/>
              <a:rect l="l" t="t" r="r" b="b"/>
              <a:pathLst>
                <a:path w="127" h="294">
                  <a:moveTo>
                    <a:pt x="126" y="0"/>
                  </a:moveTo>
                  <a:lnTo>
                    <a:pt x="120" y="10"/>
                  </a:lnTo>
                  <a:lnTo>
                    <a:pt x="109" y="17"/>
                  </a:lnTo>
                  <a:lnTo>
                    <a:pt x="94" y="25"/>
                  </a:lnTo>
                  <a:lnTo>
                    <a:pt x="76" y="31"/>
                  </a:lnTo>
                  <a:lnTo>
                    <a:pt x="55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0" y="291"/>
                  </a:lnTo>
                  <a:lnTo>
                    <a:pt x="17" y="293"/>
                  </a:lnTo>
                  <a:lnTo>
                    <a:pt x="36" y="291"/>
                  </a:lnTo>
                  <a:lnTo>
                    <a:pt x="55" y="287"/>
                  </a:lnTo>
                  <a:lnTo>
                    <a:pt x="76" y="281"/>
                  </a:lnTo>
                  <a:lnTo>
                    <a:pt x="94" y="274"/>
                  </a:lnTo>
                  <a:lnTo>
                    <a:pt x="109" y="266"/>
                  </a:lnTo>
                  <a:lnTo>
                    <a:pt x="120" y="258"/>
                  </a:lnTo>
                  <a:lnTo>
                    <a:pt x="126" y="251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d5ac98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745400" y="2542680"/>
              <a:ext cx="118800" cy="3708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0" y="42"/>
                  </a:moveTo>
                  <a:lnTo>
                    <a:pt x="17" y="42"/>
                  </a:lnTo>
                  <a:lnTo>
                    <a:pt x="36" y="40"/>
                  </a:lnTo>
                  <a:lnTo>
                    <a:pt x="55" y="37"/>
                  </a:lnTo>
                  <a:lnTo>
                    <a:pt x="76" y="31"/>
                  </a:lnTo>
                  <a:lnTo>
                    <a:pt x="94" y="25"/>
                  </a:lnTo>
                  <a:lnTo>
                    <a:pt x="109" y="17"/>
                  </a:lnTo>
                  <a:lnTo>
                    <a:pt x="120" y="10"/>
                  </a:lnTo>
                  <a:lnTo>
                    <a:pt x="126" y="0"/>
                  </a:lnTo>
                  <a:lnTo>
                    <a:pt x="0" y="4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744680" y="2351880"/>
              <a:ext cx="129960" cy="39600"/>
            </a:xfrm>
            <a:custGeom>
              <a:avLst/>
              <a:gdLst/>
              <a:ahLst/>
              <a:rect l="l" t="t" r="r" b="b"/>
              <a:pathLst>
                <a:path w="141" h="45">
                  <a:moveTo>
                    <a:pt x="140" y="4"/>
                  </a:moveTo>
                  <a:lnTo>
                    <a:pt x="129" y="0"/>
                  </a:lnTo>
                  <a:lnTo>
                    <a:pt x="0" y="43"/>
                  </a:lnTo>
                  <a:lnTo>
                    <a:pt x="14" y="44"/>
                  </a:lnTo>
                  <a:lnTo>
                    <a:pt x="140" y="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860960" y="2389320"/>
              <a:ext cx="14400" cy="398160"/>
            </a:xfrm>
            <a:custGeom>
              <a:avLst/>
              <a:gdLst/>
              <a:ahLst/>
              <a:rect l="l" t="t" r="r" b="b"/>
              <a:pathLst>
                <a:path w="17" h="475">
                  <a:moveTo>
                    <a:pt x="16" y="1"/>
                  </a:moveTo>
                  <a:lnTo>
                    <a:pt x="16" y="474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16" y="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860960" y="2721600"/>
              <a:ext cx="252000" cy="72000"/>
            </a:xfrm>
            <a:custGeom>
              <a:avLst/>
              <a:gdLst/>
              <a:ahLst/>
              <a:rect l="l" t="t" r="r" b="b"/>
              <a:pathLst>
                <a:path w="271" h="85">
                  <a:moveTo>
                    <a:pt x="254" y="84"/>
                  </a:moveTo>
                  <a:lnTo>
                    <a:pt x="254" y="78"/>
                  </a:lnTo>
                  <a:lnTo>
                    <a:pt x="254" y="72"/>
                  </a:lnTo>
                  <a:lnTo>
                    <a:pt x="256" y="68"/>
                  </a:lnTo>
                  <a:lnTo>
                    <a:pt x="256" y="65"/>
                  </a:lnTo>
                  <a:lnTo>
                    <a:pt x="258" y="63"/>
                  </a:lnTo>
                  <a:lnTo>
                    <a:pt x="262" y="61"/>
                  </a:lnTo>
                  <a:lnTo>
                    <a:pt x="266" y="59"/>
                  </a:lnTo>
                  <a:lnTo>
                    <a:pt x="270" y="57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54" y="84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60240" y="27705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731000" y="2733120"/>
              <a:ext cx="14400" cy="22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16" y="15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5"/>
                  </a:lnTo>
                  <a:lnTo>
                    <a:pt x="16" y="19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 flipV="1">
            <a:off x="6571800" y="2991960"/>
            <a:ext cx="136440" cy="219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6864120" y="3056040"/>
            <a:ext cx="453960" cy="21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7245000" y="3119040"/>
            <a:ext cx="63180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253200" y="2697120"/>
            <a:ext cx="1288800" cy="523440"/>
            <a:chOff x="6253200" y="2697120"/>
            <a:chExt cx="1288800" cy="523440"/>
          </a:xfrm>
        </p:grpSpPr>
        <p:sp>
          <p:nvSpPr>
            <p:cNvPr id="348" name=""/>
            <p:cNvSpPr/>
            <p:nvPr/>
          </p:nvSpPr>
          <p:spPr>
            <a:xfrm flipH="1">
              <a:off x="6256080" y="2697120"/>
              <a:ext cx="1283040" cy="353520"/>
            </a:xfrm>
            <a:custGeom>
              <a:avLst/>
              <a:gdLst/>
              <a:ahLst/>
              <a:rect l="l" t="t" r="r" b="b"/>
              <a:pathLst>
                <a:path w="1110" h="306">
                  <a:moveTo>
                    <a:pt x="1109" y="119"/>
                  </a:moveTo>
                  <a:lnTo>
                    <a:pt x="536" y="305"/>
                  </a:lnTo>
                  <a:lnTo>
                    <a:pt x="0" y="186"/>
                  </a:lnTo>
                  <a:lnTo>
                    <a:pt x="575" y="0"/>
                  </a:lnTo>
                  <a:lnTo>
                    <a:pt x="1109" y="119"/>
                  </a:lnTo>
                </a:path>
              </a:pathLst>
            </a:custGeom>
            <a:gradFill rotWithShape="0">
              <a:gsLst>
                <a:gs pos="0">
                  <a:srgbClr val="008694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920640" y="2914920"/>
              <a:ext cx="621000" cy="302760"/>
            </a:xfrm>
            <a:custGeom>
              <a:avLst/>
              <a:gdLst/>
              <a:ahLst/>
              <a:rect l="l" t="t" r="r" b="b"/>
              <a:pathLst>
                <a:path w="537" h="263">
                  <a:moveTo>
                    <a:pt x="536" y="119"/>
                  </a:moveTo>
                  <a:lnTo>
                    <a:pt x="536" y="262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536" y="119"/>
                  </a:lnTo>
                </a:path>
              </a:pathLst>
            </a:custGeom>
            <a:solidFill>
              <a:srgbClr val="008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253200" y="2840040"/>
              <a:ext cx="663120" cy="380520"/>
              <a:chOff x="6253200" y="2840040"/>
              <a:chExt cx="663120" cy="38052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6253200" y="2840040"/>
                <a:ext cx="663120" cy="38052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142"/>
                    </a:moveTo>
                    <a:lnTo>
                      <a:pt x="573" y="0"/>
                    </a:lnTo>
                    <a:lnTo>
                      <a:pt x="0" y="186"/>
                    </a:lnTo>
                    <a:lnTo>
                      <a:pt x="0" y="329"/>
                    </a:lnTo>
                    <a:lnTo>
                      <a:pt x="573" y="142"/>
                    </a:lnTo>
                  </a:path>
                </a:pathLst>
              </a:custGeom>
              <a:solidFill>
                <a:srgbClr val="008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270840" y="297252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3"/>
                    </a:moveTo>
                    <a:lnTo>
                      <a:pt x="11" y="13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734520" y="3015720"/>
                <a:ext cx="22680" cy="3312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8" y="6"/>
                    </a:moveTo>
                    <a:lnTo>
                      <a:pt x="8" y="4"/>
                    </a:lnTo>
                    <a:lnTo>
                      <a:pt x="12" y="14"/>
                    </a:lnTo>
                    <a:lnTo>
                      <a:pt x="6" y="15"/>
                    </a:lnTo>
                    <a:lnTo>
                      <a:pt x="8" y="6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2" y="25"/>
                    </a:lnTo>
                    <a:lnTo>
                      <a:pt x="4" y="15"/>
                    </a:lnTo>
                    <a:lnTo>
                      <a:pt x="12" y="14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6" y="25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718680" y="3009960"/>
                <a:ext cx="18360" cy="270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6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98520" y="300420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6"/>
                    </a:moveTo>
                    <a:lnTo>
                      <a:pt x="2" y="2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5" y="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5" y="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21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679800" y="3005640"/>
                <a:ext cx="20160" cy="23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1"/>
                    </a:moveTo>
                    <a:lnTo>
                      <a:pt x="2" y="13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8" y="11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659640" y="29970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8"/>
                    </a:moveTo>
                    <a:lnTo>
                      <a:pt x="6" y="6"/>
                    </a:lnTo>
                    <a:lnTo>
                      <a:pt x="4" y="6"/>
                    </a:lnTo>
                    <a:lnTo>
                      <a:pt x="10" y="17"/>
                    </a:lnTo>
                    <a:lnTo>
                      <a:pt x="12" y="10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8" y="15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17"/>
                    </a:lnTo>
                    <a:lnTo>
                      <a:pt x="16" y="19"/>
                    </a:lnTo>
                    <a:lnTo>
                      <a:pt x="12" y="10"/>
                    </a:lnTo>
                    <a:lnTo>
                      <a:pt x="8" y="21"/>
                    </a:ln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640920" y="2989800"/>
                <a:ext cx="20160" cy="2556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2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6" y="19"/>
                    </a:lnTo>
                    <a:lnTo>
                      <a:pt x="10" y="19"/>
                    </a:lnTo>
                    <a:lnTo>
                      <a:pt x="10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633720" y="2986920"/>
                <a:ext cx="20160" cy="25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6"/>
                    </a:moveTo>
                    <a:lnTo>
                      <a:pt x="3" y="6"/>
                    </a:lnTo>
                    <a:lnTo>
                      <a:pt x="3" y="2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621840" y="298692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6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607440" y="2976840"/>
                <a:ext cx="18360" cy="273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19"/>
                    </a:lnTo>
                    <a:lnTo>
                      <a:pt x="9" y="21"/>
                    </a:lnTo>
                    <a:lnTo>
                      <a:pt x="12" y="1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21"/>
                    </a:lnTo>
                    <a:lnTo>
                      <a:pt x="7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573960" y="2965320"/>
                <a:ext cx="18360" cy="273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8"/>
                    </a:moveTo>
                    <a:lnTo>
                      <a:pt x="3" y="6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3" y="23"/>
                    </a:lnTo>
                    <a:lnTo>
                      <a:pt x="7" y="21"/>
                    </a:lnTo>
                    <a:lnTo>
                      <a:pt x="7" y="4"/>
                    </a:lnTo>
                    <a:lnTo>
                      <a:pt x="3" y="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562800" y="2961000"/>
                <a:ext cx="20160" cy="273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12"/>
                    </a:move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542640" y="2955240"/>
                <a:ext cx="20160" cy="273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6" y="1"/>
                    </a:move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846120" y="310788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7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7" y="23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789600" y="308916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8"/>
                    </a:lnTo>
                    <a:lnTo>
                      <a:pt x="0" y="23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734880" y="3071880"/>
                <a:ext cx="24480" cy="27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6"/>
                    </a:lnTo>
                    <a:lnTo>
                      <a:pt x="0" y="23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7" y="17"/>
                    </a:lnTo>
                    <a:lnTo>
                      <a:pt x="21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676920" y="3051720"/>
                <a:ext cx="24480" cy="29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0"/>
                    </a:moveTo>
                    <a:lnTo>
                      <a:pt x="0" y="7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20760" y="3033000"/>
                <a:ext cx="25920" cy="28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8"/>
                    </a:lnTo>
                    <a:lnTo>
                      <a:pt x="0" y="23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5" y="22"/>
                    </a:lnTo>
                    <a:lnTo>
                      <a:pt x="15" y="20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562440" y="30157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8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21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509160" y="2998440"/>
                <a:ext cx="24480" cy="288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0"/>
                    </a:moveTo>
                    <a:lnTo>
                      <a:pt x="0" y="6"/>
                    </a:lnTo>
                    <a:lnTo>
                      <a:pt x="0" y="23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8" y="17"/>
                    </a:lnTo>
                    <a:lnTo>
                      <a:pt x="21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453000" y="297972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0"/>
                    </a:moveTo>
                    <a:lnTo>
                      <a:pt x="0" y="7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6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851880" y="31539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828480" y="31467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845760" y="316440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824160" y="315828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10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795360" y="313668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17"/>
                    </a:moveTo>
                    <a:lnTo>
                      <a:pt x="18" y="0"/>
                    </a:lnTo>
                    <a:lnTo>
                      <a:pt x="0" y="5"/>
                    </a:lnTo>
                    <a:lnTo>
                      <a:pt x="0" y="22"/>
                    </a:lnTo>
                    <a:lnTo>
                      <a:pt x="18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773400" y="3129480"/>
                <a:ext cx="19800" cy="2448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15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7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788160" y="314676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6766200" y="3136680"/>
                <a:ext cx="19800" cy="19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8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738840" y="3117960"/>
                <a:ext cx="22680" cy="2448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9" y="17"/>
                    </a:moveTo>
                    <a:lnTo>
                      <a:pt x="19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9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715800" y="311076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16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22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733080" y="31266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6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711480" y="311940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8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684120" y="310068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15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7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6661080" y="3090600"/>
                <a:ext cx="21600" cy="28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678360" y="310932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9"/>
                    </a:lnTo>
                    <a:lnTo>
                      <a:pt x="16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655320" y="310212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627600" y="3080520"/>
                <a:ext cx="21600" cy="273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606000" y="3073320"/>
                <a:ext cx="20160" cy="28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620760" y="309060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597360" y="308484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570000" y="3061800"/>
                <a:ext cx="21600" cy="288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8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548400" y="3056040"/>
                <a:ext cx="20160" cy="28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565320" y="3073320"/>
                <a:ext cx="19800" cy="19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542640" y="306756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514920" y="3044520"/>
                <a:ext cx="21600" cy="284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8" y="17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8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493320" y="3038760"/>
                <a:ext cx="20160" cy="2448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16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1"/>
                    </a:lnTo>
                    <a:lnTo>
                      <a:pt x="17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510600" y="305604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10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487560" y="304740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458760" y="3027240"/>
                <a:ext cx="23040" cy="255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15"/>
                    </a:moveTo>
                    <a:lnTo>
                      <a:pt x="18" y="0"/>
                    </a:lnTo>
                    <a:lnTo>
                      <a:pt x="0" y="5"/>
                    </a:lnTo>
                    <a:lnTo>
                      <a:pt x="0" y="21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436800" y="3021480"/>
                <a:ext cx="21600" cy="244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15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453000" y="303588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8" y="10"/>
                    </a:lnTo>
                    <a:lnTo>
                      <a:pt x="16" y="1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29600" y="303012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9"/>
                    </a:moveTo>
                    <a:lnTo>
                      <a:pt x="16" y="9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354720" y="296388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7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331320" y="295668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8" y="18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18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348960" y="2975400"/>
                <a:ext cx="1872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325560" y="296820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253200" y="2840040"/>
                <a:ext cx="663120" cy="380520"/>
              </a:xfrm>
              <a:custGeom>
                <a:avLst/>
                <a:gdLst/>
                <a:ahLst/>
                <a:rect l="l" t="t" r="r" b="b"/>
                <a:pathLst>
                  <a:path w="574" h="330">
                    <a:moveTo>
                      <a:pt x="573" y="0"/>
                    </a:moveTo>
                    <a:lnTo>
                      <a:pt x="0" y="186"/>
                    </a:lnTo>
                    <a:lnTo>
                      <a:pt x="0" y="3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 rot="5817600">
            <a:off x="5668560" y="4635360"/>
            <a:ext cx="326880" cy="57132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5817600">
            <a:off x="6049080" y="5067000"/>
            <a:ext cx="327240" cy="57132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3843000">
            <a:off x="6900480" y="5232600"/>
            <a:ext cx="326880" cy="57132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137800">
            <a:off x="7764480" y="5079600"/>
            <a:ext cx="326880" cy="57168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951520" y="4645080"/>
            <a:ext cx="615600" cy="285480"/>
            <a:chOff x="5951520" y="4645080"/>
            <a:chExt cx="615600" cy="285480"/>
          </a:xfrm>
        </p:grpSpPr>
        <p:sp>
          <p:nvSpPr>
            <p:cNvPr id="415" name=""/>
            <p:cNvSpPr/>
            <p:nvPr/>
          </p:nvSpPr>
          <p:spPr>
            <a:xfrm>
              <a:off x="5951520" y="4645080"/>
              <a:ext cx="615600" cy="28548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c9957b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51520" y="4645080"/>
              <a:ext cx="615600" cy="18720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78040" y="467028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86680" y="4743000"/>
              <a:ext cx="173520" cy="3960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87600" y="474840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58800" y="4694040"/>
              <a:ext cx="172800" cy="4320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43480" y="5076720"/>
            <a:ext cx="615600" cy="285480"/>
            <a:chOff x="6243480" y="5076720"/>
            <a:chExt cx="615600" cy="285480"/>
          </a:xfrm>
        </p:grpSpPr>
        <p:sp>
          <p:nvSpPr>
            <p:cNvPr id="422" name=""/>
            <p:cNvSpPr/>
            <p:nvPr/>
          </p:nvSpPr>
          <p:spPr>
            <a:xfrm>
              <a:off x="6243480" y="5076720"/>
              <a:ext cx="615600" cy="28548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c9957b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43480" y="5076720"/>
              <a:ext cx="615600" cy="18720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70000" y="510192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78640" y="5174640"/>
              <a:ext cx="173520" cy="3960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9560" y="518004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760" y="5125680"/>
              <a:ext cx="172800" cy="4320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980400" y="5153040"/>
            <a:ext cx="615600" cy="285480"/>
            <a:chOff x="6980400" y="5153040"/>
            <a:chExt cx="615600" cy="285480"/>
          </a:xfrm>
        </p:grpSpPr>
        <p:sp>
          <p:nvSpPr>
            <p:cNvPr id="429" name=""/>
            <p:cNvSpPr/>
            <p:nvPr/>
          </p:nvSpPr>
          <p:spPr>
            <a:xfrm>
              <a:off x="6980400" y="5153040"/>
              <a:ext cx="615600" cy="28548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c9957b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80400" y="5153040"/>
              <a:ext cx="615600" cy="18720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06920" y="517824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15560" y="5250960"/>
              <a:ext cx="173520" cy="3960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16480" y="525636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7680" y="5202000"/>
              <a:ext cx="172800" cy="4320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691400" y="4911840"/>
            <a:ext cx="615600" cy="285120"/>
            <a:chOff x="7691400" y="4911840"/>
            <a:chExt cx="615600" cy="285120"/>
          </a:xfrm>
        </p:grpSpPr>
        <p:sp>
          <p:nvSpPr>
            <p:cNvPr id="436" name=""/>
            <p:cNvSpPr/>
            <p:nvPr/>
          </p:nvSpPr>
          <p:spPr>
            <a:xfrm>
              <a:off x="7691400" y="4911840"/>
              <a:ext cx="615600" cy="285120"/>
            </a:xfrm>
            <a:custGeom>
              <a:avLst/>
              <a:gdLst/>
              <a:ahLst/>
              <a:rect l="l" t="t" r="r" b="b"/>
              <a:pathLst>
                <a:path w="516" h="245">
                  <a:moveTo>
                    <a:pt x="515" y="71"/>
                  </a:moveTo>
                  <a:lnTo>
                    <a:pt x="513" y="64"/>
                  </a:lnTo>
                  <a:lnTo>
                    <a:pt x="509" y="56"/>
                  </a:lnTo>
                  <a:lnTo>
                    <a:pt x="503" y="46"/>
                  </a:lnTo>
                  <a:lnTo>
                    <a:pt x="492" y="39"/>
                  </a:lnTo>
                  <a:lnTo>
                    <a:pt x="480" y="33"/>
                  </a:lnTo>
                  <a:lnTo>
                    <a:pt x="465" y="25"/>
                  </a:lnTo>
                  <a:lnTo>
                    <a:pt x="446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8" y="44"/>
                  </a:lnTo>
                  <a:lnTo>
                    <a:pt x="34" y="50"/>
                  </a:lnTo>
                  <a:lnTo>
                    <a:pt x="23" y="58"/>
                  </a:lnTo>
                  <a:lnTo>
                    <a:pt x="13" y="66"/>
                  </a:lnTo>
                  <a:lnTo>
                    <a:pt x="8" y="71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4" y="190"/>
                  </a:lnTo>
                  <a:lnTo>
                    <a:pt x="11" y="198"/>
                  </a:lnTo>
                  <a:lnTo>
                    <a:pt x="21" y="205"/>
                  </a:lnTo>
                  <a:lnTo>
                    <a:pt x="34" y="213"/>
                  </a:lnTo>
                  <a:lnTo>
                    <a:pt x="50" y="221"/>
                  </a:lnTo>
                  <a:lnTo>
                    <a:pt x="67" y="226"/>
                  </a:lnTo>
                  <a:lnTo>
                    <a:pt x="90" y="232"/>
                  </a:lnTo>
                  <a:lnTo>
                    <a:pt x="132" y="240"/>
                  </a:lnTo>
                  <a:lnTo>
                    <a:pt x="178" y="244"/>
                  </a:lnTo>
                  <a:lnTo>
                    <a:pt x="228" y="244"/>
                  </a:lnTo>
                  <a:lnTo>
                    <a:pt x="276" y="244"/>
                  </a:lnTo>
                  <a:lnTo>
                    <a:pt x="325" y="238"/>
                  </a:lnTo>
                  <a:lnTo>
                    <a:pt x="371" y="230"/>
                  </a:lnTo>
                  <a:lnTo>
                    <a:pt x="392" y="226"/>
                  </a:lnTo>
                  <a:lnTo>
                    <a:pt x="413" y="221"/>
                  </a:lnTo>
                  <a:lnTo>
                    <a:pt x="434" y="215"/>
                  </a:lnTo>
                  <a:lnTo>
                    <a:pt x="452" y="209"/>
                  </a:lnTo>
                  <a:lnTo>
                    <a:pt x="467" y="201"/>
                  </a:lnTo>
                  <a:lnTo>
                    <a:pt x="480" y="196"/>
                  </a:lnTo>
                  <a:lnTo>
                    <a:pt x="492" y="188"/>
                  </a:lnTo>
                  <a:lnTo>
                    <a:pt x="499" y="180"/>
                  </a:lnTo>
                  <a:lnTo>
                    <a:pt x="507" y="175"/>
                  </a:lnTo>
                  <a:lnTo>
                    <a:pt x="511" y="167"/>
                  </a:lnTo>
                  <a:lnTo>
                    <a:pt x="513" y="159"/>
                  </a:lnTo>
                  <a:lnTo>
                    <a:pt x="515" y="154"/>
                  </a:lnTo>
                  <a:lnTo>
                    <a:pt x="515" y="71"/>
                  </a:lnTo>
                </a:path>
              </a:pathLst>
            </a:custGeom>
            <a:gradFill rotWithShape="0">
              <a:gsLst>
                <a:gs pos="0">
                  <a:srgbClr val="c9957b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91400" y="4911840"/>
              <a:ext cx="615600" cy="186840"/>
            </a:xfrm>
            <a:custGeom>
              <a:avLst/>
              <a:gdLst/>
              <a:ahLst/>
              <a:rect l="l" t="t" r="r" b="b"/>
              <a:pathLst>
                <a:path w="516" h="160">
                  <a:moveTo>
                    <a:pt x="452" y="123"/>
                  </a:moveTo>
                  <a:lnTo>
                    <a:pt x="469" y="117"/>
                  </a:lnTo>
                  <a:lnTo>
                    <a:pt x="482" y="110"/>
                  </a:lnTo>
                  <a:lnTo>
                    <a:pt x="494" y="102"/>
                  </a:lnTo>
                  <a:lnTo>
                    <a:pt x="501" y="94"/>
                  </a:lnTo>
                  <a:lnTo>
                    <a:pt x="509" y="87"/>
                  </a:lnTo>
                  <a:lnTo>
                    <a:pt x="513" y="79"/>
                  </a:lnTo>
                  <a:lnTo>
                    <a:pt x="515" y="71"/>
                  </a:lnTo>
                  <a:lnTo>
                    <a:pt x="513" y="64"/>
                  </a:lnTo>
                  <a:lnTo>
                    <a:pt x="511" y="56"/>
                  </a:lnTo>
                  <a:lnTo>
                    <a:pt x="505" y="50"/>
                  </a:lnTo>
                  <a:lnTo>
                    <a:pt x="498" y="43"/>
                  </a:lnTo>
                  <a:lnTo>
                    <a:pt x="488" y="37"/>
                  </a:lnTo>
                  <a:lnTo>
                    <a:pt x="475" y="29"/>
                  </a:lnTo>
                  <a:lnTo>
                    <a:pt x="461" y="23"/>
                  </a:lnTo>
                  <a:lnTo>
                    <a:pt x="444" y="20"/>
                  </a:lnTo>
                  <a:lnTo>
                    <a:pt x="425" y="14"/>
                  </a:lnTo>
                  <a:lnTo>
                    <a:pt x="383" y="6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37" y="2"/>
                  </a:lnTo>
                  <a:lnTo>
                    <a:pt x="189" y="8"/>
                  </a:lnTo>
                  <a:lnTo>
                    <a:pt x="143" y="14"/>
                  </a:lnTo>
                  <a:lnTo>
                    <a:pt x="99" y="25"/>
                  </a:lnTo>
                  <a:lnTo>
                    <a:pt x="63" y="37"/>
                  </a:lnTo>
                  <a:lnTo>
                    <a:pt x="46" y="44"/>
                  </a:lnTo>
                  <a:lnTo>
                    <a:pt x="32" y="52"/>
                  </a:lnTo>
                  <a:lnTo>
                    <a:pt x="21" y="58"/>
                  </a:lnTo>
                  <a:lnTo>
                    <a:pt x="11" y="66"/>
                  </a:lnTo>
                  <a:lnTo>
                    <a:pt x="6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9" y="111"/>
                  </a:lnTo>
                  <a:lnTo>
                    <a:pt x="17" y="117"/>
                  </a:lnTo>
                  <a:lnTo>
                    <a:pt x="27" y="125"/>
                  </a:lnTo>
                  <a:lnTo>
                    <a:pt x="38" y="131"/>
                  </a:lnTo>
                  <a:lnTo>
                    <a:pt x="54" y="136"/>
                  </a:lnTo>
                  <a:lnTo>
                    <a:pt x="71" y="142"/>
                  </a:lnTo>
                  <a:lnTo>
                    <a:pt x="90" y="146"/>
                  </a:lnTo>
                  <a:lnTo>
                    <a:pt x="132" y="154"/>
                  </a:lnTo>
                  <a:lnTo>
                    <a:pt x="178" y="159"/>
                  </a:lnTo>
                  <a:lnTo>
                    <a:pt x="228" y="159"/>
                  </a:lnTo>
                  <a:lnTo>
                    <a:pt x="276" y="157"/>
                  </a:lnTo>
                  <a:lnTo>
                    <a:pt x="325" y="154"/>
                  </a:lnTo>
                  <a:lnTo>
                    <a:pt x="371" y="146"/>
                  </a:lnTo>
                  <a:lnTo>
                    <a:pt x="392" y="142"/>
                  </a:lnTo>
                  <a:lnTo>
                    <a:pt x="413" y="136"/>
                  </a:lnTo>
                  <a:lnTo>
                    <a:pt x="434" y="131"/>
                  </a:lnTo>
                  <a:lnTo>
                    <a:pt x="452" y="123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7920" y="493704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128" y="0"/>
                  </a:moveTo>
                  <a:lnTo>
                    <a:pt x="44" y="10"/>
                  </a:lnTo>
                  <a:lnTo>
                    <a:pt x="65" y="14"/>
                  </a:lnTo>
                  <a:lnTo>
                    <a:pt x="0" y="41"/>
                  </a:lnTo>
                  <a:lnTo>
                    <a:pt x="36" y="48"/>
                  </a:lnTo>
                  <a:lnTo>
                    <a:pt x="99" y="21"/>
                  </a:lnTo>
                  <a:lnTo>
                    <a:pt x="120" y="27"/>
                  </a:lnTo>
                  <a:lnTo>
                    <a:pt x="1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26560" y="5009760"/>
              <a:ext cx="173520" cy="3960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34"/>
                  </a:moveTo>
                  <a:lnTo>
                    <a:pt x="125" y="9"/>
                  </a:lnTo>
                  <a:lnTo>
                    <a:pt x="106" y="17"/>
                  </a:lnTo>
                  <a:lnTo>
                    <a:pt x="31" y="0"/>
                  </a:lnTo>
                  <a:lnTo>
                    <a:pt x="0" y="13"/>
                  </a:lnTo>
                  <a:lnTo>
                    <a:pt x="75" y="28"/>
                  </a:lnTo>
                  <a:lnTo>
                    <a:pt x="58" y="36"/>
                  </a:lnTo>
                  <a:lnTo>
                    <a:pt x="144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7480" y="5015160"/>
              <a:ext cx="152280" cy="57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84" y="39"/>
                  </a:lnTo>
                  <a:lnTo>
                    <a:pt x="63" y="33"/>
                  </a:lnTo>
                  <a:lnTo>
                    <a:pt x="128" y="8"/>
                  </a:lnTo>
                  <a:lnTo>
                    <a:pt x="92" y="0"/>
                  </a:lnTo>
                  <a:lnTo>
                    <a:pt x="27" y="25"/>
                  </a:lnTo>
                  <a:lnTo>
                    <a:pt x="6" y="21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98680" y="4960800"/>
              <a:ext cx="172800" cy="4284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0" y="2"/>
                  </a:moveTo>
                  <a:lnTo>
                    <a:pt x="19" y="26"/>
                  </a:lnTo>
                  <a:lnTo>
                    <a:pt x="36" y="21"/>
                  </a:lnTo>
                  <a:lnTo>
                    <a:pt x="111" y="36"/>
                  </a:lnTo>
                  <a:lnTo>
                    <a:pt x="143" y="25"/>
                  </a:lnTo>
                  <a:lnTo>
                    <a:pt x="67" y="7"/>
                  </a:lnTo>
                  <a:lnTo>
                    <a:pt x="86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 flipH="1">
            <a:off x="6324480" y="3251160"/>
            <a:ext cx="139680" cy="123192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64160" y="3251160"/>
            <a:ext cx="139680" cy="1765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51560" y="3301920"/>
            <a:ext cx="711360" cy="1765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4160" y="3301920"/>
            <a:ext cx="1206720" cy="1549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23:05:57Z</dcterms:created>
  <dc:creator>Valued Sony Customer</dc:creator>
  <dc:description/>
  <dc:language>en-US</dc:language>
  <cp:lastModifiedBy>Alteon WebSystems Inc. </cp:lastModifiedBy>
  <dcterms:modified xsi:type="dcterms:W3CDTF">2001-03-30T18:51:37Z</dcterms:modified>
  <cp:revision>8</cp:revision>
  <dc:subject/>
  <dc:title>Advanced Topics Appendix</dc:title>
</cp:coreProperties>
</file>