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0" y="69876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b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68960"/>
            <a:ext cx="5486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620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36520" y="695160"/>
            <a:ext cx="4583160" cy="34372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5840" y="4400640"/>
            <a:ext cx="502632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6920" y="397836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5164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3096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0464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5692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3096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0464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82120" y="885960"/>
            <a:ext cx="5743800" cy="40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5164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6920" y="397836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5164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73096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0464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5692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73096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90464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82120" y="885960"/>
            <a:ext cx="5743800" cy="40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5164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-23148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477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056040" y="6632640"/>
            <a:ext cx="3000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B84B-4281-4CD8-BAC3-E535D14A6E9D}" type="slidenum">
              <a:rPr b="0" lang="en-US" sz="9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113600" y="6026040"/>
            <a:ext cx="1781280" cy="63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1622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74560" y="3468240"/>
            <a:ext cx="5000760" cy="987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" y="6853320"/>
            <a:ext cx="9142200" cy="11160"/>
          </a:xfrm>
          <a:custGeom>
            <a:avLst/>
            <a:gdLst/>
            <a:ahLst/>
            <a:rect l="l" t="t" r="r" b="b"/>
            <a:pathLst>
              <a:path w="6335" h="8">
                <a:moveTo>
                  <a:pt x="0" y="4"/>
                </a:moveTo>
                <a:lnTo>
                  <a:pt x="4" y="8"/>
                </a:lnTo>
                <a:lnTo>
                  <a:pt x="6335" y="8"/>
                </a:lnTo>
                <a:lnTo>
                  <a:pt x="6335" y="0"/>
                </a:lnTo>
                <a:lnTo>
                  <a:pt x="4" y="0"/>
                </a:lnTo>
                <a:lnTo>
                  <a:pt x="8" y="4"/>
                </a:lnTo>
                <a:lnTo>
                  <a:pt x="0" y="4"/>
                </a:lnTo>
                <a:lnTo>
                  <a:pt x="0" y="8"/>
                </a:lnTo>
                <a:lnTo>
                  <a:pt x="4" y="8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" y="0"/>
            <a:ext cx="11160" cy="6858000"/>
          </a:xfrm>
          <a:custGeom>
            <a:avLst/>
            <a:gdLst/>
            <a:ahLst/>
            <a:rect l="l" t="t" r="r" b="b"/>
            <a:pathLst>
              <a:path w="8" h="4896">
                <a:moveTo>
                  <a:pt x="4" y="0"/>
                </a:moveTo>
                <a:lnTo>
                  <a:pt x="0" y="4"/>
                </a:lnTo>
                <a:lnTo>
                  <a:pt x="0" y="4896"/>
                </a:lnTo>
                <a:lnTo>
                  <a:pt x="8" y="4896"/>
                </a:lnTo>
                <a:lnTo>
                  <a:pt x="8" y="4"/>
                </a:lnTo>
                <a:lnTo>
                  <a:pt x="4" y="8"/>
                </a:lnTo>
                <a:lnTo>
                  <a:pt x="4" y="0"/>
                </a:lnTo>
                <a:lnTo>
                  <a:pt x="0" y="0"/>
                </a:lnTo>
                <a:lnTo>
                  <a:pt x="0" y="4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39320" y="6480"/>
            <a:ext cx="12600" cy="6858000"/>
          </a:xfrm>
          <a:custGeom>
            <a:avLst/>
            <a:gdLst/>
            <a:ahLst/>
            <a:rect l="l" t="t" r="r" b="b"/>
            <a:pathLst>
              <a:path w="8" h="4896">
                <a:moveTo>
                  <a:pt x="4" y="4896"/>
                </a:moveTo>
                <a:lnTo>
                  <a:pt x="8" y="4892"/>
                </a:lnTo>
                <a:lnTo>
                  <a:pt x="8" y="0"/>
                </a:lnTo>
                <a:lnTo>
                  <a:pt x="0" y="0"/>
                </a:lnTo>
                <a:lnTo>
                  <a:pt x="0" y="4892"/>
                </a:lnTo>
                <a:lnTo>
                  <a:pt x="4" y="4888"/>
                </a:lnTo>
                <a:lnTo>
                  <a:pt x="4" y="4896"/>
                </a:lnTo>
                <a:lnTo>
                  <a:pt x="8" y="4896"/>
                </a:lnTo>
                <a:lnTo>
                  <a:pt x="8" y="4892"/>
                </a:lnTo>
                <a:lnTo>
                  <a:pt x="4" y="489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22480" y="3171960"/>
            <a:ext cx="0" cy="2947680"/>
          </a:xfrm>
          <a:prstGeom prst="line">
            <a:avLst/>
          </a:prstGeom>
          <a:ln w="316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077840" y="843120"/>
            <a:ext cx="4908600" cy="2247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 algn="ctr">
              <a:lnSpc>
                <a:spcPct val="9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4480" indent="451080" algn="ctr">
              <a:lnSpc>
                <a:spcPct val="95000"/>
              </a:lnSpc>
              <a:spcBef>
                <a:spcPts val="374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09680" indent="563400" algn="ctr">
              <a:lnSpc>
                <a:spcPct val="95000"/>
              </a:lnSpc>
              <a:spcBef>
                <a:spcPts val="374"/>
              </a:spcBef>
              <a:buClr>
                <a:srgbClr val="990000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7560" algn="ctr">
              <a:lnSpc>
                <a:spcPct val="90000"/>
              </a:lnSpc>
              <a:spcBef>
                <a:spcPts val="224"/>
              </a:spcBef>
              <a:buClr>
                <a:srgbClr val="0033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987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987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9640" y="3188880"/>
            <a:ext cx="5000760" cy="2778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b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0033"/>
                </a:solidFill>
                <a:latin typeface="Arial"/>
              </a:rPr>
              <a:t>Alteon Advanced Switch Configuration Course</a:t>
            </a:r>
            <a:br>
              <a:rPr sz="2400"/>
            </a:b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421400" y="5938920"/>
            <a:ext cx="1516320" cy="74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76240" y="699840"/>
            <a:ext cx="777240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Welcome and Introduction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93640" y="1305000"/>
            <a:ext cx="7086600" cy="46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95000"/>
              </a:lnSpc>
              <a:spcBef>
                <a:spcPts val="751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elc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51"/>
              </a:spcBef>
              <a:buClr>
                <a:srgbClr val="990000"/>
              </a:buClr>
              <a:buSzPct val="11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structor intro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51"/>
              </a:spcBef>
              <a:buClr>
                <a:srgbClr val="990000"/>
              </a:buClr>
              <a:buSzPct val="11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aily activities – 9:00 a.m. – 5:00 p.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51"/>
              </a:spcBef>
              <a:buClr>
                <a:srgbClr val="990000"/>
              </a:buClr>
              <a:buSzPct val="11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fresh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51"/>
              </a:spcBef>
              <a:buClr>
                <a:srgbClr val="990000"/>
              </a:buClr>
              <a:buSzPct val="11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unch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51"/>
              </a:spcBef>
              <a:buClr>
                <a:srgbClr val="990000"/>
              </a:buClr>
              <a:buSzPct val="11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stroo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51"/>
              </a:spcBef>
              <a:buClr>
                <a:srgbClr val="990000"/>
              </a:buClr>
              <a:buSzPct val="11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mergency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51"/>
              </a:spcBef>
              <a:buClr>
                <a:srgbClr val="990000"/>
              </a:buClr>
              <a:buSzPct val="11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lease put pagers and cell phones in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tun m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51"/>
              </a:spcBef>
              <a:buClr>
                <a:srgbClr val="990000"/>
              </a:buClr>
              <a:buSzPct val="11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51"/>
              </a:spcBef>
              <a:buClr>
                <a:srgbClr val="990000"/>
              </a:buClr>
              <a:buSzPct val="11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tudent introdu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8800" y="749160"/>
            <a:ext cx="5743440" cy="1315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Alteon Advanced Switch Configuration Course Agenda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56920" y="2261880"/>
            <a:ext cx="6429240" cy="366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Day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Head Che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SLB L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Global Server Load Balanc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Virtual Router Redundancy Protoc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250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DAM &amp; P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2880" y="644400"/>
            <a:ext cx="5743800" cy="1315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Alteon Advanced Switch Configuration Course Agenda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56920" y="2464920"/>
            <a:ext cx="6429240" cy="34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Day tw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LB Persist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Advanced Wire Speed Fil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URL Parsing &amp; Web Cache Redir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5440" y="720360"/>
            <a:ext cx="5743440" cy="1315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Alteon Advanced Switch Configuration Course Agenda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0240" y="2273400"/>
            <a:ext cx="75949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ay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dvanced Firewall Load Bal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PN Load Bal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dvanced Bandwidth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ay four – Questions – Lab recap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 Black"/>
              </a:rPr>
              <a:t>Certification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2120" y="885600"/>
            <a:ext cx="574380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tudent Introduction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you 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you’re fr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you 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you’re 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4T20:58:18Z</dcterms:created>
  <dc:creator>Don Swenson</dc:creator>
  <dc:description/>
  <dc:language>en-US</dc:language>
  <cp:lastModifiedBy>Alteon WebSystems Inc. </cp:lastModifiedBy>
  <cp:lastPrinted>2000-04-25T15:58:32Z</cp:lastPrinted>
  <dcterms:modified xsi:type="dcterms:W3CDTF">2001-03-30T18:35:46Z</dcterms:modified>
  <cp:revision>121</cp:revision>
  <dc:subject/>
  <dc:title>No Slide Title</dc:title>
</cp:coreProperties>
</file>