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3096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04640" y="184284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5692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3096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04640" y="3978360"/>
            <a:ext cx="20700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120" y="885960"/>
            <a:ext cx="5743800" cy="40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51640" y="397836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692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51640" y="1842840"/>
            <a:ext cx="313740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6920" y="3978360"/>
            <a:ext cx="6429240" cy="19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6920" y="1842840"/>
            <a:ext cx="64292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2212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7920" indent="-23148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77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82120" y="885960"/>
            <a:ext cx="574380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56040" y="6632640"/>
            <a:ext cx="300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99"/>
                </a:solidFill>
                <a:latin typeface="Arial"/>
              </a:rPr>
              <a:t>Alteon AceView Product Lines</a:t>
            </a:r>
            <a:fld id="{00F729B3-9DBF-47F9-AEC5-1007A50D8A08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113600" y="6026040"/>
            <a:ext cx="178128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1622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4560" y="3468240"/>
            <a:ext cx="500076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6853320"/>
            <a:ext cx="9142200" cy="11160"/>
          </a:xfrm>
          <a:custGeom>
            <a:avLst/>
            <a:gdLst/>
            <a:ahLst/>
            <a:rect l="l" t="t" r="r" b="b"/>
            <a:pathLst>
              <a:path w="6335" h="8">
                <a:moveTo>
                  <a:pt x="0" y="4"/>
                </a:moveTo>
                <a:lnTo>
                  <a:pt x="4" y="8"/>
                </a:lnTo>
                <a:lnTo>
                  <a:pt x="6335" y="8"/>
                </a:lnTo>
                <a:lnTo>
                  <a:pt x="6335" y="0"/>
                </a:lnTo>
                <a:lnTo>
                  <a:pt x="4" y="0"/>
                </a:lnTo>
                <a:lnTo>
                  <a:pt x="8" y="4"/>
                </a:lnTo>
                <a:lnTo>
                  <a:pt x="0" y="4"/>
                </a:lnTo>
                <a:lnTo>
                  <a:pt x="0" y="8"/>
                </a:lnTo>
                <a:lnTo>
                  <a:pt x="4" y="8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0"/>
            <a:ext cx="1116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0"/>
                </a:moveTo>
                <a:lnTo>
                  <a:pt x="0" y="4"/>
                </a:lnTo>
                <a:lnTo>
                  <a:pt x="0" y="4896"/>
                </a:lnTo>
                <a:lnTo>
                  <a:pt x="8" y="4896"/>
                </a:lnTo>
                <a:lnTo>
                  <a:pt x="8" y="4"/>
                </a:lnTo>
                <a:lnTo>
                  <a:pt x="4" y="8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39320" y="6480"/>
            <a:ext cx="12600" cy="6858000"/>
          </a:xfrm>
          <a:custGeom>
            <a:avLst/>
            <a:gdLst/>
            <a:ahLst/>
            <a:rect l="l" t="t" r="r" b="b"/>
            <a:pathLst>
              <a:path w="8" h="4896">
                <a:moveTo>
                  <a:pt x="4" y="4896"/>
                </a:moveTo>
                <a:lnTo>
                  <a:pt x="8" y="4892"/>
                </a:lnTo>
                <a:lnTo>
                  <a:pt x="8" y="0"/>
                </a:lnTo>
                <a:lnTo>
                  <a:pt x="0" y="0"/>
                </a:lnTo>
                <a:lnTo>
                  <a:pt x="0" y="4892"/>
                </a:lnTo>
                <a:lnTo>
                  <a:pt x="4" y="4888"/>
                </a:lnTo>
                <a:lnTo>
                  <a:pt x="4" y="4896"/>
                </a:lnTo>
                <a:lnTo>
                  <a:pt x="8" y="4896"/>
                </a:lnTo>
                <a:lnTo>
                  <a:pt x="8" y="4892"/>
                </a:lnTo>
                <a:lnTo>
                  <a:pt x="4" y="48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2480" y="3171960"/>
            <a:ext cx="0" cy="2947680"/>
          </a:xfrm>
          <a:prstGeom prst="line">
            <a:avLst/>
          </a:prstGeom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03440" y="6477120"/>
            <a:ext cx="236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99"/>
                </a:solidFill>
                <a:latin typeface="Arial"/>
              </a:rPr>
              <a:t>Alteon WebSystems 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5334120" cy="189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 algn="ctr"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4480" indent="45108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SzPct val="7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09680" indent="563400" algn="ctr">
              <a:lnSpc>
                <a:spcPct val="95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7560" algn="ctr">
              <a:lnSpc>
                <a:spcPct val="90000"/>
              </a:lnSpc>
              <a:spcBef>
                <a:spcPts val="224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7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76000" y="3957480"/>
            <a:ext cx="62960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lteon AceView EM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76000" y="4770360"/>
            <a:ext cx="50007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4645440"/>
            <a:ext cx="629604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0" bIns="0" anchor="b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Janet Du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du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574380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560880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Management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Switch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3071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 Featur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Management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Switch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EMS_1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6386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3071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 Featur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6705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MP Config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EMS_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45276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EMS_3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4305240" cy="1469880"/>
          </a:xfrm>
          <a:prstGeom prst="rect">
            <a:avLst/>
          </a:prstGeom>
          <a:ln w="0">
            <a:noFill/>
          </a:ln>
        </p:spPr>
      </p:pic>
      <p:pic>
        <p:nvPicPr>
          <p:cNvPr id="98" name="EMS_4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426708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530712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 Featur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Time Statistica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ceViewGraph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2195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ceView EMS Schedules &amp; Milestone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 – Korea Tele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a –  November 20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S –  January 15, 2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0">
              <a:lnSpc>
                <a:spcPct val="95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9:15:27Z</dcterms:created>
  <dc:creator>Pankaj Manglik</dc:creator>
  <dc:description/>
  <dc:language>en-US</dc:language>
  <cp:lastModifiedBy>IT-Laptop</cp:lastModifiedBy>
  <cp:lastPrinted>2000-04-05T23:31:08Z</cp:lastPrinted>
  <dcterms:modified xsi:type="dcterms:W3CDTF">2000-11-29T18:55:44Z</dcterms:modified>
  <cp:revision>163</cp:revision>
  <dc:subject/>
  <dc:title>GPP Jan 10th to E-Staff  Pankaj Manglik</dc:title>
</cp:coreProperties>
</file>